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E49-B8E8-445E-BA82-6A36F8D8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0B06-671D-468A-9E61-CB64B8DE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24E-6775-4700-9A90-AB1CB247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08E4-3EE6-4F3F-B7D2-761534A3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B4AF-B47B-4633-B048-05546D97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2886-56C3-4D71-8B88-A56CAF51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7331-8771-49CD-B63B-53CCEC4F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22B4-1AB5-4003-85B9-76DD832C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894B-A376-446B-88E8-7397F6F74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3D02-6C67-4F77-8DB1-1BC543B8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3967-6DAB-4BBC-9C53-E5438033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7CA-D384-434A-9C0F-68C59DD0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84A4-159C-425E-BECE-0FCB2D87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6F83-5ACF-4512-AF26-FEF72168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8396-D5B0-4A8E-A902-7F98EC1C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F707-8EBD-4B19-A2C5-E59DCE27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7EB2-FD0E-4A27-A9CC-EB0EA06F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D8A2-F5E6-4B27-A68C-36667800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2DF4-5B42-4B5E-A14F-824819EB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0EB-C6F5-454A-9B33-0F749A4E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F79-8E47-4533-B96F-C95021B7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3C0-33FD-456D-8212-B78856EC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13F-DF13-42FF-AEBF-035071CB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EAF-BCF3-48C3-ADAD-97950698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3716-8993-4349-94FD-82865D32DEC8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D1DE-99E8-4A4F-8DB7-A2D814BB9B29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nswers.com/topic/network-model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06633"/>
                </a:solidFill>
                <a:latin typeface="Garamond"/>
              </a:rPr>
              <a:t>MREŽNI MODEL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vor Me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eronika A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dmila Sa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Dijagram strukture podatak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"/>
          <p:cNvSpPr/>
          <p:nvPr/>
        </p:nvSpPr>
        <p:spPr>
          <a:xfrm>
            <a:off x="2322360" y="2060640"/>
            <a:ext cx="1067040" cy="68580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99080" y="2060640"/>
            <a:ext cx="990720" cy="68580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z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"/>
          <p:cNvCxnSpPr>
            <a:stCxn id="181" idx="3"/>
            <a:endCxn id="182" idx="1"/>
          </p:cNvCxnSpPr>
          <p:nvPr/>
        </p:nvCxnSpPr>
        <p:spPr>
          <a:xfrm>
            <a:off x="3389400" y="2403000"/>
            <a:ext cx="221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1332000" y="2060640"/>
            <a:ext cx="990360" cy="68580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89800" y="2060640"/>
            <a:ext cx="1066680" cy="68580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j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6081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STAVN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1608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M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22560" y="1984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3357720"/>
            <a:ext cx="8381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Entiteti (slogovi): NASTAVNIK i PREDM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Veza: PREDAJE 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tipa 1: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Značenje veze: 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“nastavnik predaje predme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Dijagram strukture podatak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"/>
          <p:cNvSpPr/>
          <p:nvPr/>
        </p:nvSpPr>
        <p:spPr>
          <a:xfrm>
            <a:off x="1851120" y="2233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24160" y="2425680"/>
            <a:ext cx="1066680" cy="68580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600880" y="2425680"/>
            <a:ext cx="990360" cy="68580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z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3440" y="2425680"/>
            <a:ext cx="990720" cy="68580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91240" y="2425680"/>
            <a:ext cx="1067040" cy="68580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j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86080" y="19684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STAVN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29480" y="1968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M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2349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90840" y="2730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Entiteti (slogovi): NASTAVNIK i PREDM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Veza: PREDAJE 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tipa 1: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Značenje veze: 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“nastavnik predaje predme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Dijagram strukture podatak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"/>
          <p:cNvSpPr/>
          <p:nvPr/>
        </p:nvSpPr>
        <p:spPr>
          <a:xfrm>
            <a:off x="2314440" y="156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04960" y="1797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78000" y="1989000"/>
            <a:ext cx="1066680" cy="68580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54720" y="1989000"/>
            <a:ext cx="990360" cy="68580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z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87280" y="1989000"/>
            <a:ext cx="990720" cy="68580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45080" y="1989000"/>
            <a:ext cx="1067040" cy="68580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j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39920" y="15318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STAVNI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83320" y="15318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M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778200" y="1913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4680" y="237024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4360" y="4005360"/>
            <a:ext cx="7632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Entiteti (slogovi): NASTAVNIK i PREDM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Veza: PREDAJE 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tipa M: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Značenje veze: 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“nastavnik predaje predme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ko je veza opisana atributima, transformacija dijagrama entiteti-veze u dijagram strukture podataka kompliciranija je, jer veza nema mogućnosti bilježenja vrijed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 tom slučaju otvara se novi slog koji sadrži vrijednost atributa i koji se povezuje vezama sa slogovima koji sudjeluju vez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33"/>
                </a:solidFill>
                <a:latin typeface="Garamond"/>
              </a:rPr>
              <a:t>Veza “PREDAJE” tipa M:M opisana </a:t>
            </a:r>
            <a:br>
              <a:rPr sz="3200"/>
            </a:br>
            <a:r>
              <a:rPr b="0" lang="hr-HR" sz="3200" spc="-1" strike="noStrike">
                <a:solidFill>
                  <a:srgbClr val="006633"/>
                </a:solidFill>
                <a:latin typeface="Garamond"/>
              </a:rPr>
              <a:t>atributom “ŠK. GOD”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4653000"/>
            <a:ext cx="2087640" cy="863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STAV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27640" y="4653000"/>
            <a:ext cx="2087640" cy="865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D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5280" y="4437000"/>
            <a:ext cx="1728720" cy="1295640"/>
          </a:xfrm>
          <a:prstGeom prst="flowChartDecis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1916280"/>
            <a:ext cx="1440000" cy="72072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08000" y="1916280"/>
            <a:ext cx="1440000" cy="72072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80000" y="1916280"/>
            <a:ext cx="1439640" cy="72072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K.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24360" y="1916280"/>
            <a:ext cx="1440000" cy="72072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Z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51640" y="1916280"/>
            <a:ext cx="1440000" cy="72072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"/>
          <p:cNvCxnSpPr>
            <a:stCxn id="216" idx="3"/>
            <a:endCxn id="218" idx="1"/>
          </p:cNvCxnSpPr>
          <p:nvPr/>
        </p:nvCxnSpPr>
        <p:spPr>
          <a:xfrm>
            <a:off x="2843280" y="5084280"/>
            <a:ext cx="79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16" idx="0"/>
            <a:endCxn id="219" idx="2"/>
          </p:cNvCxnSpPr>
          <p:nvPr/>
        </p:nvCxnSpPr>
        <p:spPr>
          <a:xfrm flipH="1" flipV="1">
            <a:off x="899280" y="2636640"/>
            <a:ext cx="901080" cy="20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6" name=""/>
          <p:cNvCxnSpPr>
            <a:stCxn id="218" idx="3"/>
            <a:endCxn id="217" idx="1"/>
          </p:cNvCxnSpPr>
          <p:nvPr/>
        </p:nvCxnSpPr>
        <p:spPr>
          <a:xfrm>
            <a:off x="5363640" y="5084280"/>
            <a:ext cx="864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" name=""/>
          <p:cNvCxnSpPr/>
          <p:nvPr/>
        </p:nvCxnSpPr>
        <p:spPr>
          <a:xfrm flipH="1">
            <a:off x="1834920" y="2637000"/>
            <a:ext cx="829440" cy="20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221" idx="2"/>
            <a:endCxn id="218" idx="0"/>
          </p:cNvCxnSpPr>
          <p:nvPr/>
        </p:nvCxnSpPr>
        <p:spPr>
          <a:xfrm>
            <a:off x="4500360" y="2637000"/>
            <a:ext cx="1080" cy="180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222" idx="2"/>
            <a:endCxn id="217" idx="0"/>
          </p:cNvCxnSpPr>
          <p:nvPr/>
        </p:nvCxnSpPr>
        <p:spPr>
          <a:xfrm>
            <a:off x="6445080" y="2637000"/>
            <a:ext cx="828000" cy="20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3" idx="2"/>
            <a:endCxn id="217" idx="0"/>
          </p:cNvCxnSpPr>
          <p:nvPr/>
        </p:nvCxnSpPr>
        <p:spPr>
          <a:xfrm flipH="1">
            <a:off x="7272000" y="2637000"/>
            <a:ext cx="900720" cy="20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2916360" y="450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,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92720" y="450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,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6633"/>
                </a:solidFill>
                <a:latin typeface="Garamond"/>
              </a:rPr>
              <a:t>Odgovarajući dijagram strukture podatak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2565360"/>
            <a:ext cx="1440000" cy="57636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56000" y="2565360"/>
            <a:ext cx="1439640" cy="57636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03640" y="2565360"/>
            <a:ext cx="1440000" cy="57636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z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43640" y="2565360"/>
            <a:ext cx="1440000" cy="57636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m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03640" y="4292640"/>
            <a:ext cx="2376360" cy="108108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Šk.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2205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STAV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205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D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19640" y="3860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5" idx="1"/>
            <a:endCxn id="235" idx="1"/>
          </p:cNvCxnSpPr>
          <p:nvPr/>
        </p:nvCxnSpPr>
        <p:spPr>
          <a:xfrm>
            <a:off x="2555640" y="28540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 flipH="1">
            <a:off x="5219640" y="3141720"/>
            <a:ext cx="1224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56000" y="3141720"/>
            <a:ext cx="1008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5f5f5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lacije koje nisu binarne ili nisu više prema jedan služe se umjetnim slogovima (slogovima koje dodaje dizajner modela podataka)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5f5f5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režni model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pokazuje određene prednosti nad hijerarhijskim modelom baze jer izravno može uspostaviti veze između slogova na različitim hijerarhijskim razinama.</a:t>
            </a:r>
            <a:r>
              <a:rPr b="0" lang="en-GB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Ternarna v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"/>
          <p:cNvSpPr/>
          <p:nvPr/>
        </p:nvSpPr>
        <p:spPr>
          <a:xfrm>
            <a:off x="306360" y="1219320"/>
            <a:ext cx="18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5800" y="3981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88840" y="3792600"/>
            <a:ext cx="1752840" cy="68580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stav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03840" y="3792600"/>
            <a:ext cx="1752840" cy="68580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ed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50" idx="3"/>
          </p:cNvCxnSpPr>
          <p:nvPr/>
        </p:nvCxnSpPr>
        <p:spPr>
          <a:xfrm>
            <a:off x="2641320" y="4134960"/>
            <a:ext cx="1067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endCxn id="251" idx="1"/>
          </p:cNvCxnSpPr>
          <p:nvPr/>
        </p:nvCxnSpPr>
        <p:spPr>
          <a:xfrm>
            <a:off x="5308560" y="413496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endCxn id="251" idx="0"/>
          </p:cNvCxnSpPr>
          <p:nvPr/>
        </p:nvCxnSpPr>
        <p:spPr>
          <a:xfrm>
            <a:off x="6970680" y="3105000"/>
            <a:ext cx="51048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 flipH="1">
            <a:off x="8051760" y="318276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8840" y="3792600"/>
            <a:ext cx="1752840" cy="68580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EN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03840" y="3792600"/>
            <a:ext cx="1752840" cy="68580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08360" y="3716280"/>
            <a:ext cx="1905120" cy="838080"/>
          </a:xfrm>
          <a:prstGeom prst="flowChartDecis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ad 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"/>
          <p:cNvCxnSpPr>
            <a:stCxn id="256" idx="3"/>
            <a:endCxn id="258" idx="1"/>
          </p:cNvCxnSpPr>
          <p:nvPr/>
        </p:nvCxnSpPr>
        <p:spPr>
          <a:xfrm>
            <a:off x="2641320" y="4134960"/>
            <a:ext cx="1067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58" idx="3"/>
            <a:endCxn id="257" idx="1"/>
          </p:cNvCxnSpPr>
          <p:nvPr/>
        </p:nvCxnSpPr>
        <p:spPr>
          <a:xfrm>
            <a:off x="5613120" y="4134960"/>
            <a:ext cx="99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"/>
          <p:cNvCxnSpPr/>
          <p:nvPr/>
        </p:nvCxnSpPr>
        <p:spPr>
          <a:xfrm>
            <a:off x="469800" y="3335400"/>
            <a:ext cx="1029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2" name=""/>
          <p:cNvSpPr/>
          <p:nvPr/>
        </p:nvSpPr>
        <p:spPr>
          <a:xfrm flipH="1">
            <a:off x="8051760" y="3182760"/>
            <a:ext cx="3808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endCxn id="256" idx="0"/>
          </p:cNvCxnSpPr>
          <p:nvPr/>
        </p:nvCxnSpPr>
        <p:spPr>
          <a:xfrm flipH="1">
            <a:off x="1764720" y="3563640"/>
            <a:ext cx="533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3936960" y="2878200"/>
            <a:ext cx="1447920" cy="45720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58" idx="0"/>
            <a:endCxn id="264" idx="2"/>
          </p:cNvCxnSpPr>
          <p:nvPr/>
        </p:nvCxnSpPr>
        <p:spPr>
          <a:xfrm flipV="1">
            <a:off x="4660560" y="333504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6" name=""/>
          <p:cNvCxnSpPr>
            <a:endCxn id="264" idx="0"/>
          </p:cNvCxnSpPr>
          <p:nvPr/>
        </p:nvCxnSpPr>
        <p:spPr>
          <a:xfrm>
            <a:off x="4431960" y="2572920"/>
            <a:ext cx="22932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7" name=""/>
          <p:cNvSpPr/>
          <p:nvPr/>
        </p:nvSpPr>
        <p:spPr>
          <a:xfrm flipV="1">
            <a:off x="4851360" y="249660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32200" y="38289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26240" y="3792600"/>
            <a:ext cx="6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,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08720" y="337176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1,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44640" y="4869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9400" y="2924280"/>
            <a:ext cx="1081080" cy="4316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78120" y="3067200"/>
            <a:ext cx="1296720" cy="50472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mj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7760" y="2130480"/>
            <a:ext cx="1224000" cy="4316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46840" y="2130480"/>
            <a:ext cx="1295280" cy="4316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486480" y="2779560"/>
            <a:ext cx="1079640" cy="36036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z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956720" y="2781360"/>
            <a:ext cx="936360" cy="4316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12320" y="5229360"/>
            <a:ext cx="55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jagram E_V s ternarnom vez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Ternarna v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"/>
          <p:cNvSpPr/>
          <p:nvPr/>
        </p:nvSpPr>
        <p:spPr>
          <a:xfrm>
            <a:off x="417600" y="2421000"/>
            <a:ext cx="914400" cy="60948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332000" y="2421000"/>
            <a:ext cx="914400" cy="60948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mj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32400" y="2421000"/>
            <a:ext cx="914400" cy="60948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8000" y="2421000"/>
            <a:ext cx="914400" cy="60948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65760" y="2421000"/>
            <a:ext cx="914400" cy="60948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z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04200" y="2421000"/>
            <a:ext cx="914400" cy="60948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13080" y="3639960"/>
            <a:ext cx="2438280" cy="60984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46400" y="295416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761000" y="30304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446440" y="303048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24680" y="2039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EN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99600" y="203976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048440" y="203976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OJEK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00760" y="372276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AD_NA_PROJEK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14160" y="5157720"/>
            <a:ext cx="465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jagram strukture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Mrežna baza podataka sastoji se od skupa slogova i skupa veza između slogova, a za oba vrijede sljedeća osnovna pravil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dna veza potječe samo od jednog sloga i ne može imati više roditelj slogo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aka veza ima isključivo jedan dijete slog, dok jedan dijete slog može imati više veza u kojima sudjelu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ijete slog u jednoj hijerarhiji može biti roditelj slog u drugo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dan roditelj slog može biti roditelj slog u većem broju v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edan dijete slog može biti dijete slog u većem broju v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među jednog roditelj i jednog dijete sloga može istovremeno postojati više ve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Uvo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 Unicode MS"/>
              </a:rPr>
              <a:t>Podaci su logički organizirani prema nekom model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 Unicode MS"/>
              </a:rPr>
              <a:t>Tri su najčešća i najrasprostranjenija modela baza podataka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 Unicode MS"/>
              </a:rPr>
              <a:t>hijerarhijsk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 Unicode MS"/>
              </a:rPr>
              <a:t>mrežn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 Unicode MS"/>
              </a:rPr>
              <a:t>relacijsk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 Unicode MS"/>
              </a:rPr>
              <a:t>Razlikuju se međusobno u troškovima primjene, brzini pristupa podacima, načinima zadovoljenja potreba korisnika za informacijama i s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 Unicode MS"/>
              </a:rPr>
              <a:t>Hijerarhijski i mrežni modeli su dosta slični. Pristup zapisima je brz i efikasan, ali teško je doći do veza koje nisu eksplicitno naznačene u predviđenoj shemi,pocinju se razvijati i primjenjivati oko 1960. g., a relacijski model se pojavljuje malo kasnij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Prednosti i nedostac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Prednosti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brz pristup podac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efikasna obrada transakcij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sposobnost pridodavanja velikog broja slogova promjenjive dužine zadanom korijenu.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       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Nedostaci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sve pristupne staze, direktoriji i indeksi moraju biti unaprijed specificiran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zahtjeva mnogo programiranja, veliki utrošak vremena, teško se instalira i stvara poteškoće kod otklanjanja grešaka u dizajn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ne dozvoljava jednostavno postavljanje upita na prirodnom jeziku (tj. na programskom jeziku sličnom govornom engleskom jeziku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Literatura</a:t>
            </a: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. Varga , 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Baze podataka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answers.com/topic/network-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Z.Skočir, I.Matasić, B.Vrdoljak: 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Organizacija obrade podataka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, Zagreb, 200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.Silberschatz, H.F.Korth, S. Sudarshan: 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Database System Concepts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, McGraw-Hill, 2001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Uvo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16000" y="1196640"/>
            <a:ext cx="701208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 Unicode MS"/>
              </a:rPr>
              <a:t>Modeliranje podataka</a:t>
            </a:r>
            <a:r>
              <a:rPr b="0" lang="hr-HR" sz="2400" spc="-1" strike="noStrike">
                <a:solidFill>
                  <a:srgbClr val="000000"/>
                </a:solidFill>
                <a:latin typeface="Arial Unicode MS"/>
              </a:rPr>
              <a:t> – proces prikazivanja podataka stvarnog svijeta i njihovih međusobnih odnosa (relac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Unicode MS"/>
              </a:rPr>
              <a:t>Faze procesa modeliran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Unicode MS"/>
              </a:rPr>
              <a:t>Konceptualno modeliranje podat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Unicode MS"/>
              </a:rPr>
              <a:t>Logičko (implementacijsko) modeliranje podataka, koje se svo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Unicode MS"/>
              </a:rPr>
              <a:t>pretvorbu konceptualnog modela podataka izvedenog u obliku modela entiteti-veze u logičku shemu baze podatak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Unicode MS"/>
              </a:rPr>
              <a:t>doradu logičke sheme baze podataka, ako to proizlazi iz zahtjeva za obradom podataka (npr. povećanje brzine rada s bazom i s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Unicode MS"/>
              </a:rPr>
              <a:t>Fizičko modeliranje podat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8686800" y="17524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10480" y="57913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04920"/>
            <a:ext cx="2286000" cy="1143000"/>
          </a:xfrm>
          <a:prstGeom prst="flowChartMultidocumen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tvarni svi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poslovni susta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1905120"/>
            <a:ext cx="1981080" cy="761760"/>
          </a:xfrm>
          <a:prstGeom prst="flowChartPreparati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nceptual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3124080"/>
            <a:ext cx="1600200" cy="68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ogič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4267080"/>
            <a:ext cx="1600200" cy="68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zič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5562720"/>
            <a:ext cx="1371600" cy="1143000"/>
          </a:xfrm>
          <a:prstGeom prst="flowChartMagneticDisk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dat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13716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26668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380988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4952880"/>
            <a:ext cx="152640" cy="762120"/>
          </a:xfrm>
          <a:prstGeom prst="downArrow">
            <a:avLst>
              <a:gd name="adj1" fmla="val 50000"/>
              <a:gd name="adj2" fmla="val 12482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0020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Anali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oslovnog sust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0920" y="2144880"/>
            <a:ext cx="188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Konceptual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modeliranje podata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895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297180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0592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Oblikovan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nformacijskog sust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3668760"/>
            <a:ext cx="193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Logič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modeliranje podata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4430880"/>
            <a:ext cx="201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Fizič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modeliranje podata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0292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14188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z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Informacijskog susta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248520" y="457200"/>
            <a:ext cx="1295280" cy="533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248520" y="10018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Stvarni objek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6920" y="1600200"/>
            <a:ext cx="71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entite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ve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atribu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1676520"/>
            <a:ext cx="609840" cy="152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438280"/>
            <a:ext cx="609840" cy="152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1981080"/>
            <a:ext cx="457200" cy="3049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8" idx="0"/>
          </p:cNvCxnSpPr>
          <p:nvPr/>
        </p:nvCxnSpPr>
        <p:spPr>
          <a:xfrm>
            <a:off x="7086240" y="22856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" name=""/>
          <p:cNvSpPr/>
          <p:nvPr/>
        </p:nvSpPr>
        <p:spPr>
          <a:xfrm>
            <a:off x="7772400" y="1498680"/>
            <a:ext cx="133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400" spc="-1" strike="noStrike">
                <a:solidFill>
                  <a:srgbClr val="996600"/>
                </a:solidFill>
                <a:latin typeface="Arial"/>
              </a:rPr>
              <a:t>Perspek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400" spc="-1" strike="noStrike">
                <a:solidFill>
                  <a:srgbClr val="996600"/>
                </a:solidFill>
                <a:latin typeface="Arial"/>
              </a:rPr>
              <a:t>korisni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124080"/>
            <a:ext cx="12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400" spc="-1" strike="noStrike">
                <a:solidFill>
                  <a:srgbClr val="996600"/>
                </a:solidFill>
                <a:latin typeface="Arial"/>
              </a:rPr>
              <a:t>Perspek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400" spc="-1" strike="noStrike">
                <a:solidFill>
                  <a:srgbClr val="996600"/>
                </a:solidFill>
                <a:latin typeface="Arial"/>
              </a:rPr>
              <a:t>projekt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40384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54760" y="4354560"/>
            <a:ext cx="111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400" spc="-1" strike="noStrike">
                <a:solidFill>
                  <a:srgbClr val="996600"/>
                </a:solidFill>
                <a:latin typeface="Arial"/>
              </a:rPr>
              <a:t>Perspek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400" spc="-1" strike="noStrike">
                <a:solidFill>
                  <a:srgbClr val="996600"/>
                </a:solidFill>
                <a:latin typeface="Arial"/>
              </a:rPr>
              <a:t>izvođač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57150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78440" y="5954760"/>
            <a:ext cx="111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400" spc="-1" strike="noStrike">
                <a:solidFill>
                  <a:srgbClr val="996600"/>
                </a:solidFill>
                <a:latin typeface="Arial"/>
              </a:rPr>
              <a:t>Perspek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400" spc="-1" strike="noStrike">
                <a:solidFill>
                  <a:srgbClr val="996600"/>
                </a:solidFill>
                <a:latin typeface="Arial"/>
              </a:rPr>
              <a:t>korisni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41960" y="3135240"/>
            <a:ext cx="74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n-to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relaci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38720" y="4354560"/>
            <a:ext cx="131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fizički sklopo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adresir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244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/>
          <p:nvPr/>
        </p:nvCxnSpPr>
        <p:spPr>
          <a:xfrm flipV="1">
            <a:off x="6324120" y="34282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/>
          <p:nvPr/>
        </p:nvCxnSpPr>
        <p:spPr>
          <a:xfrm>
            <a:off x="6324480" y="342864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/>
          <p:nvPr/>
        </p:nvCxnSpPr>
        <p:spPr>
          <a:xfrm>
            <a:off x="6933960" y="3428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6400800" y="3505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24480" y="3581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08640" y="476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 flipV="1">
            <a:off x="6476760" y="4876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"/>
          <p:cNvCxnSpPr/>
          <p:nvPr/>
        </p:nvCxnSpPr>
        <p:spPr>
          <a:xfrm>
            <a:off x="6476760" y="48765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"/>
          <p:cNvCxnSpPr/>
          <p:nvPr/>
        </p:nvCxnSpPr>
        <p:spPr>
          <a:xfrm>
            <a:off x="70862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6553080" y="4952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4952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43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4876920"/>
            <a:ext cx="228600" cy="759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Povijesni razvoj mrežnog mode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1969. prva specifikacija mrežnog modela od strane CODASYL-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1971. CODASYL objavljuje po drugi put specifikaciju, koja postaje osnova za većinu implementacija mrežnog mode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 razvojem se nastavlja sve do ranih 1980-tih i dostižu vrhunac s ISO specifikacij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Povijesni razvoj mrežnog mode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BTG (Data Base Task Group) osnovan da utvrdi standard baza podataka, predložio korištenje 3 komponente baza podata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hema DDL: jezik za mrežno strukturirane baze podataka - kako ju vidi administrator (schema data description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dshema DDL: jezik za definiranje korisnočkog pogleda na bazu podataka - kako ju vide aplikacijski programi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subschema data description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ML: Jezik za manipuliranje podacima čija je sintaksa kompatibilna sa sintaksom programskih jezika u koje se uključuje (COBOL) 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data manipulation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Mrežni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Osnovu strukture u mrežnim bazama čine </a:t>
            </a:r>
            <a:r>
              <a:rPr b="0" i="1" lang="hr-HR" sz="2100" spc="-1" strike="noStrike">
                <a:solidFill>
                  <a:srgbClr val="000000"/>
                </a:solidFill>
                <a:latin typeface="Arial"/>
              </a:rPr>
              <a:t>slogovi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. Taj način veze između slogova čine mrežu pa zato i ime </a:t>
            </a:r>
            <a:r>
              <a:rPr b="0" i="1" lang="hr-HR" sz="2100" spc="-1" strike="noStrike">
                <a:solidFill>
                  <a:srgbClr val="000000"/>
                </a:solidFill>
                <a:latin typeface="Arial"/>
              </a:rPr>
              <a:t>mrežne baze podataka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. Mrežna baza podataka se sastoji od skupa slogova i skupa veza između slogov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Jedan slog sadrži podatke jedne pojave </a:t>
            </a:r>
            <a:r>
              <a:rPr b="0" i="1" lang="hr-HR" sz="2100" spc="-1" strike="noStrike">
                <a:solidFill>
                  <a:srgbClr val="000000"/>
                </a:solidFill>
                <a:latin typeface="Arial"/>
              </a:rPr>
              <a:t>entiteta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. Pod pojmom entiteta podrazumijeva se sve što se može jednoznačno odrediti, identificirati i razlikovati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Slog se sastoji od određenog broja polja (koja odgovaraju atributima) i njihovih skupova segmenat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Svako polje sadrži jednu vrijednost atribu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Slogovi se povezuju fizičkim vezama koje su srodne binarnim vezama modela entiteti-vez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Dijagram E - V mode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3284640"/>
            <a:ext cx="1728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STAV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205000"/>
            <a:ext cx="1584360" cy="57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205000"/>
            <a:ext cx="1584360" cy="57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05080" y="2779560"/>
            <a:ext cx="50292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231640" y="2709720"/>
            <a:ext cx="57636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3284640"/>
            <a:ext cx="1729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03640" y="2205000"/>
            <a:ext cx="1584360" cy="57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z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8360" y="2205000"/>
            <a:ext cx="1584360" cy="57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j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40360" y="277956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732720" y="2708280"/>
            <a:ext cx="5745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357336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59280" y="3573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35280" y="2852640"/>
            <a:ext cx="1728720" cy="14414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073400">
            <a:off x="1764360" y="4004280"/>
            <a:ext cx="574560" cy="576360"/>
          </a:xfrm>
          <a:prstGeom prst="rightArrow">
            <a:avLst>
              <a:gd name="adj1" fmla="val 25065"/>
              <a:gd name="adj2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472428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33"/>
                </a:solidFill>
                <a:latin typeface="Arial"/>
              </a:rPr>
              <a:t>S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073400">
            <a:off x="4212360" y="4507560"/>
            <a:ext cx="574560" cy="576360"/>
          </a:xfrm>
          <a:prstGeom prst="rightArrow">
            <a:avLst>
              <a:gd name="adj1" fmla="val 25065"/>
              <a:gd name="adj2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6495000">
            <a:off x="3672720" y="1591560"/>
            <a:ext cx="719280" cy="504720"/>
          </a:xfrm>
          <a:prstGeom prst="rightArrow">
            <a:avLst>
              <a:gd name="adj1" fmla="val 25065"/>
              <a:gd name="adj2" fmla="val 71255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5640" y="1125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33"/>
                </a:solidFill>
                <a:latin typeface="Arial"/>
              </a:rPr>
              <a:t>Atrib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5229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33"/>
                </a:solidFill>
                <a:latin typeface="Arial"/>
              </a:rPr>
              <a:t>V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Mrežni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truktura podataka mrežnog modela opisuje se dijagramom strukture podata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Arial"/>
              </a:rPr>
              <a:t>Razlikujemo preslikavanje tipa 1:1, 1:M, M: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bzirom na stupanj, postoje unarne, binarne, ternarne,…,n-arne vez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režni model zahtijeva da se unaprijed predvide moguće veze među podacima, te da se rezervira potreban prostor za njihovo spreman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15:42:32Z</dcterms:created>
  <dc:creator>Rada</dc:creator>
  <dc:description/>
  <dc:language>en-US</dc:language>
  <cp:lastModifiedBy>Kabinet</cp:lastModifiedBy>
  <dcterms:modified xsi:type="dcterms:W3CDTF">2007-05-07T09:10:26Z</dcterms:modified>
  <cp:revision>4</cp:revision>
  <dc:subject/>
  <dc:title>MREŽNI MODEL</dc:title>
</cp:coreProperties>
</file>