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23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AA2-0346-4BE0-AD27-571894F0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902-E3BF-4C5C-90A7-6ACC1CA1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290-56E5-44EF-A8AE-5F601B2C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750-35F2-4ECC-9241-CBF76800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ADB8-64F3-44AA-9EEB-2CD53798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347A-6319-479E-A183-DACD983B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4788-642F-4C83-9CD3-A29671ED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7CC0-744D-46A2-B829-156310B8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778E-D2B3-4A47-8E20-151B7CDA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B761-CD04-490C-94FC-66BEFA6C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8B46-1BE2-4C4A-A0C6-2D75E561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9CB-A1C5-4B68-A7EE-0017DDAD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2B13-B7B7-4BCA-A7F7-8E1231DC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1AC3-C7B4-45C3-BEB2-D3C2648A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D444-22D5-4E11-983C-9A7B6E65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3D41-EF97-484F-A4C7-52616E4C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37DD-8F8A-48E8-80F2-D5BC2129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836-7F07-4D0C-A149-3CC56BF8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1D2-17E1-4F4C-8129-4D5D8246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CBC4-9C53-431E-ADF9-09CC7B5A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DE0-55BB-4520-96B4-BBBFE27D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BA3-AB78-474A-9ACF-04A4C32E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630-DE5E-453F-8EDC-16D075D2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57C-1799-481E-B2A5-F2180DD2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32E4-150C-47A6-A30E-51A812E9013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1EAE-C233-407F-8418-C14BD88B8CF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73080" y="1279440"/>
            <a:ext cx="8931240" cy="2017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571840" y="4928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Davor Menon, Tomislav Živkovi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Hamiltonov učenik Peter Guthrie Tait (1831.-1901.)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u 1850.-ima počinje primjenjivati kvaternione na probleme u elektricitetu, magnetizmu i drugim fizikalnim problemim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U drugoj polovici 19. stoljeć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Taitovo zagovaranje kvaternion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nailazi na razne kritik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5786280" y="3071880"/>
            <a:ext cx="22860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960" y="129600"/>
            <a:ext cx="804384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71388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U isto vrijeme kad je Hamilton otkrio kvaternione, Hermann  Grassmann (1809.-1877.) pisao je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The Calculus of Extensions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(1844.), djelo poznato pod njemačkim nazivom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Ausdehnungslehre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, u kojemu je proširio vektore s dvije i tri dimenzije na n-tu dimenziju, što proširuje ideju o prostoru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Dobrim je dijelom pridonio modernoj  linearnoj algebri i vektorskoj analizi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</a:t>
            </a:r>
            <a:r>
              <a:rPr b="0" lang="hr-HR" sz="1600" spc="-1" strike="noStrike">
                <a:solidFill>
                  <a:srgbClr val="ffffff"/>
                </a:solidFill>
                <a:latin typeface="Book Antiqua"/>
              </a:rPr>
              <a:t>Hermann  Grassmann (1809.-1877.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429000" y="3571920"/>
            <a:ext cx="19288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214280"/>
            <a:ext cx="88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Djelo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 Ausdehnungslehre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nailazi na protivnike zbog svoje apstraktnosti, manjkavosti objašnjenja na primjerima, nejasnog stila i komplicirane notacij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Möbius ga nije uspio u potpunosti razumjeti ni nakon opsežnog proučavanja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Ovakvo tumačenje potkrijepljeno je činjenicom da je Grassmann bio učitelj u srednjoj školi bez visokog obrazovanja (u usporedbi s Hamiltonom)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1428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Grassmann promovira svoju poruku 1840.-ih i 1850.-ih primjenom u elektrodinamici i geometriji površinskih krivulja, ali bez većeg uspjeh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1862. godine Grassmann objavljuje drugo izmijenjeno izdanje knjige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 Ausdehnungslehre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, koju napokon prihvaćaju i cijene, zbog čega Grassmann dobiva priznanja. Treće izdanje te knjige objavljeno je godinu dana nakon Grassmannove smrti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Sredinom devetnaestog stoljeća Benjamin Peirce (1809.-1880.) najznačajniji je matematičar u SAD-u, koji se također poziva na Hamiltona kao autora kvaternion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Bio je profesor matematike i astronomije na Harvardu i napisao je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System of Analytical Mechanics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(1855.) u kojemu ne obuhvaća kvaternion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56800" y="272520"/>
            <a:ext cx="782964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004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Posvećuje se radu na potpuno apstraktnoj algebri u djelu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Linear Associative Algebra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(1870.) nazivajući je „prekrasna algebra svemira“.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Book Antiqua"/>
              </a:rPr>
              <a:t>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</a:t>
            </a:r>
            <a:r>
              <a:rPr b="0" lang="hr-HR" sz="1600" spc="-1" strike="noStrike">
                <a:solidFill>
                  <a:srgbClr val="ffffff"/>
                </a:solidFill>
                <a:latin typeface="Book Antiqua"/>
              </a:rPr>
              <a:t>Benjamin Peirce (1809-1880.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357720" y="2500200"/>
            <a:ext cx="22096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5520" y="236880"/>
            <a:ext cx="790092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07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James Clerk Maxwell (1831.-1879.) bio je protivnik kvaterniona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Škoti Maxwell i Tait studirali su zajedno u Edinburgu na sveučilištu Cambridge i dijelili su interes za matematičku fiziku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Maxwell fizikalne veličine dijeli na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dvije kategorije, skalare i vektor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072120" y="3214800"/>
            <a:ext cx="22320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680" y="93960"/>
            <a:ext cx="811512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4200" y="785520"/>
            <a:ext cx="8715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Wiliam Kingdon Clifford (1845.-1879.) izražava divljenje Grassmannovom djelu i proučava vektore, koje često naziva (steps) koraci, preko kvaterniona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U svom djelu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Elements of Dynamic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(1878.) Clifford rastavlja produkt dva kvaterniona na dva različita vektorska produkta, skalarni produkt i vektorski produkt (danas kartezijev)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Book Antiqua"/>
              </a:rPr>
              <a:t>                                                 </a:t>
            </a:r>
            <a:r>
              <a:rPr b="0" lang="hr-HR" sz="1600" spc="-1" strike="noStrike">
                <a:solidFill>
                  <a:srgbClr val="ffffff"/>
                </a:solidFill>
                <a:latin typeface="Book Antiqua"/>
              </a:rPr>
              <a:t>Wiliam Kingdon Clifford (1845.-1879.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143160" y="3571920"/>
            <a:ext cx="2898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2920" y="1214280"/>
            <a:ext cx="885816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Razvoj vektorske algebre i analize kakvu danas poznajemo prvi je započeo J. Willard Gibbs (1839.-1903.) za studente sveučilišta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Yale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Ostvario je znanstvena dostignuć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na području termodinamik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Maxwell podržava Gibbsov rad u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termodinamici, posebno geometrijski prikaz Gibbsovih rezultat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857920" y="2071800"/>
            <a:ext cx="195264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760" y="1214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Gibbs se upoznao s kvaternionima kada je proučavao Maxwellovo djelo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Treatise on Electricity and Magnetism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proučavao je i Grassmannovo djelo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Ausdehnungslehre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Zaključio je da su vektori efikasniji za rad u fizici. 1901. izdao je svoju prvu knjigu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Vector Analysis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3571920" y="3857760"/>
            <a:ext cx="1695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00040" y="164268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Porijeklo  zakona  paralelograma  za  zbrajanje  vektora je  nepoznato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Postoje tumačenja da se pojavio u izgubljenom Aristotelovom djelu, a nalazi se u Heronovom djelu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Mechanics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(prvo stojeće nove ere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275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hr-HR" sz="1600" spc="-1" strike="noStrike">
                <a:solidFill>
                  <a:srgbClr val="ffffff"/>
                </a:solidFill>
                <a:latin typeface="Book Antiqua"/>
              </a:rPr>
              <a:t>Aristotel (384.-322 .B.C.)                                        Heron (1. stoljeće nove ere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386000" y="3786120"/>
            <a:ext cx="1542960" cy="2212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5572080" y="3714840"/>
            <a:ext cx="15764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Oliwer Heaviside (1850.-1925.) objavljuje članke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Electromagnetic Theory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u kojima se protivi kvaternionima i razvija svoju vektorsku analizu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857680" y="2928960"/>
            <a:ext cx="2346120" cy="2712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6215040" y="3429000"/>
            <a:ext cx="121464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760" y="1285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Zahvaljujući radovima ovih velikih matematičara, vektori  postaju moderan jezik u velikom dijelu fizike i primjenjene matematik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2928960" y="2857680"/>
            <a:ext cx="28814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57120" y="12855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Zakon paralelograma ujedno je i prvi korolar u Newtonovom djelu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Principia Mathematica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, 1687. godin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U djelu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Principia Mathematica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Newton se bavi brzinom, silom, ali nikada pravim konceptom vektora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Book Antiqua"/>
              </a:rPr>
              <a:t>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Book Antiqua"/>
              </a:rPr>
              <a:t>Issac Newton (1642.-1727.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2000160" y="3571920"/>
            <a:ext cx="1871640" cy="2571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5072040" y="3571920"/>
            <a:ext cx="18572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Vektori su nastali u prvih dvjesto godina 19. stoljeća kao geometrijski prikaz kompleksnog broj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Caspar Wessel (1745.-1818.), Jean Robert Argand (1768.-1822.), Carl Friedrich Gauss (1777.-1855.) promatrali su kompleksne brojeve kao točke u ravnini, tj. kao dvodimenzionalne vektor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357720" y="4572000"/>
            <a:ext cx="20714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214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09040" indent="-3823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Matematičari i znanstvenici  primjenjivali su te brojeve na razne način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- Gauss ih je koristio u dokazu fundamentalnog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teorema algebre 1799. godi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- 1837. godine Hamilton je pokazao da se kompleksn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brojevi mogu apstraktno shvatiti kao uređeni par realni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brojeva (a,b). Tu ideju razmatrali su mnogi matematičari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uključujući Hamiltona, ali nisu uspjeli dvodimenzional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vektore proširiti u treću dimenziju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4240" y="58320"/>
            <a:ext cx="797256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6429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1827. godine August Ferdinand Möbius objavljuje kratku knjigu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The Barycentric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Calculus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u kojoj uvodi usmjerene dužine, koje označava slovima abecede, ali ih još ne imenuje vektorim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Möbius u svojim djelima razvija aritmetiku usmjerenih dužina, zbraja ih i pokazuje kako se množe sa skalarom, no nitko ne uviđa važnost tih operacij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Book Antiqua"/>
              </a:rPr>
              <a:t>                               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Book Antiqua"/>
              </a:rPr>
              <a:t>                               </a:t>
            </a:r>
            <a:r>
              <a:rPr b="0" lang="hr-HR" sz="1600" spc="-1" strike="noStrike">
                <a:solidFill>
                  <a:srgbClr val="ffffff"/>
                </a:solidFill>
                <a:latin typeface="Book Antiqua"/>
              </a:rPr>
              <a:t>August Ferdinand  Möbius (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790</a:t>
            </a:r>
            <a:r>
              <a:rPr b="0" lang="hr-HR" sz="1600" spc="-1" strike="noStrike">
                <a:solidFill>
                  <a:srgbClr val="ffffff"/>
                </a:solidFill>
                <a:latin typeface="Book Antiqua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-1868</a:t>
            </a:r>
            <a:r>
              <a:rPr b="0" lang="hr-HR" sz="1600" spc="-1" strike="noStrike">
                <a:solidFill>
                  <a:srgbClr val="ffffff"/>
                </a:solidFill>
                <a:latin typeface="Book Antiqua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071880" y="3857760"/>
            <a:ext cx="193176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Nakon svojevrsne krize, Hamilton odustaje od potrage za trodimenzionalnim brojevnim sustavom i osmišljava četverodimenzionalni sustav koji  naziva kvaternioni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Kvaternione zapisuje kao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q=w+ix+jy+kz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gdje s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v, x, y, z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realni brojevi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Hamilton ubrzo shvaća da se njegovi kvaternioni sastoje od dva različita dijela. Prvi od njih nazvao je skalar, a 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x, y, z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projekcije su na tri pravokutne osi koje naposlijetku naziva vektorim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3572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Koristi svoju „osnovnu formulu“                       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Za množenje kvaterniona odmah otkriva da produkt     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                      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nije komutativa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214800" y="2000160"/>
            <a:ext cx="2395440" cy="370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1071720" y="3143160"/>
            <a:ext cx="1358640" cy="328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2714760" y="3857760"/>
            <a:ext cx="317484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428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1835. godine Hamilton je proglaš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vitezom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Hamilton je poznati znanstvenik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koji je postavio temelje u optici i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teorijskoj fizici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Napisao je dvije iscrpne knjige –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Lectures on Quaternions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1853. godine  i </a:t>
            </a:r>
            <a:r>
              <a:rPr b="0" i="1" lang="hr-HR" sz="2400" spc="-1" strike="noStrike">
                <a:solidFill>
                  <a:srgbClr val="ffffff"/>
                </a:solidFill>
                <a:latin typeface="Book Antiqua"/>
              </a:rPr>
              <a:t>Elements of Quaternions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1866. godine u kojima obrađuje algebru kvaterniona i njihovu primjenu u geometriji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000840" y="2071800"/>
            <a:ext cx="2084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09:08:01Z</dcterms:created>
  <dc:creator>h2o</dc:creator>
  <dc:description/>
  <dc:language>en-US</dc:language>
  <cp:lastModifiedBy>Jajos69</cp:lastModifiedBy>
  <dcterms:modified xsi:type="dcterms:W3CDTF">2008-09-05T12:03:48Z</dcterms:modified>
  <cp:revision>31</cp:revision>
  <dc:subject/>
  <dc:title>Povijest vektora i vektorskih prostora</dc:title>
</cp:coreProperties>
</file>