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600" y="3939120"/>
            <a:ext cx="8686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00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600" y="393912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5840" y="393912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02720" y="393912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7A4-3E5C-4813-AFBA-212111A4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5C5-1AC0-4F48-92D8-6F6015B3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DDF-8E7A-4775-954F-36654126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5F3-A578-4C0C-8AFC-A3F0548B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8CE-DA9F-47E2-B0FA-E8F7C40F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001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C42-A812-4A06-9154-363EA4BB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D40-D06D-4E69-94B8-48F6129D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0FAD-D82A-4AF3-B2AB-3696F5F1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8686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AFF-7691-4131-B8B8-9C37B536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28600" y="3939120"/>
            <a:ext cx="8686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A945-C575-44B7-AC9E-18CFF43B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E7BB-0E83-4C01-BAF1-7BB2C120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28600" y="393912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5840" y="393912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2720" y="3939120"/>
            <a:ext cx="27968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FEE0-4357-4B45-B421-91CD8F98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001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0" y="393912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12600"/>
            <a:ext cx="80010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939120"/>
            <a:ext cx="8686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43E7-0E42-45AD-867C-AA31F418BAA1}" type="slidenum">
              <a:rPr b="0" lang="hr-H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RHITEKTURA RAČUNALA 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AUDITORNE VJEŽB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utarnja arhitektur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7848720" y="1905120"/>
            <a:ext cx="914400" cy="1593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419720" y="1390680"/>
            <a:ext cx="3352680" cy="3520080"/>
            <a:chOff x="4419720" y="1390680"/>
            <a:chExt cx="3352680" cy="3520080"/>
          </a:xfrm>
        </p:grpSpPr>
        <p:sp>
          <p:nvSpPr>
            <p:cNvPr id="153" name=""/>
            <p:cNvSpPr/>
            <p:nvPr/>
          </p:nvSpPr>
          <p:spPr>
            <a:xfrm>
              <a:off x="4419720" y="3324240"/>
              <a:ext cx="1752480" cy="8982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OLJE REGISTA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19720" y="4448160"/>
              <a:ext cx="1752480" cy="4626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INCREMENTER/DECREMEN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24480" y="3324240"/>
              <a:ext cx="1447920" cy="2494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KUMUL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53280" y="1390680"/>
              <a:ext cx="1371600" cy="4626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RIVREMENI REGIST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743200" y="2257560"/>
            <a:ext cx="1523880" cy="462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STRU-KCIJSKI REGI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2362320"/>
            <a:ext cx="1524240" cy="4626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KODER INSTRUKCI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5400000">
            <a:off x="2247480" y="229536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343400" y="4924440"/>
            <a:ext cx="3200400" cy="1697040"/>
            <a:chOff x="4343400" y="4924440"/>
            <a:chExt cx="3200400" cy="1697040"/>
          </a:xfrm>
        </p:grpSpPr>
        <p:sp>
          <p:nvSpPr>
            <p:cNvPr id="161" name=""/>
            <p:cNvSpPr/>
            <p:nvPr/>
          </p:nvSpPr>
          <p:spPr>
            <a:xfrm>
              <a:off x="4343400" y="5381640"/>
              <a:ext cx="1905120" cy="4626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MEĐUSPREMNIK ADRESNE SABIRN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5067360" y="4962600"/>
              <a:ext cx="457200" cy="380880"/>
            </a:xfrm>
            <a:prstGeom prst="leftRightArrow">
              <a:avLst>
                <a:gd name="adj1" fmla="val 50000"/>
                <a:gd name="adj2" fmla="val 25630"/>
              </a:avLst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21360" y="6067440"/>
              <a:ext cx="380880" cy="554040"/>
            </a:xfrm>
            <a:prstGeom prst="downArrow">
              <a:avLst>
                <a:gd name="adj1" fmla="val 50000"/>
                <a:gd name="adj2" fmla="val 36366"/>
              </a:avLst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86400" y="6143760"/>
              <a:ext cx="205740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16-BITNA ADRESNA SABIR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267080" y="1876320"/>
            <a:ext cx="3581640" cy="1447920"/>
            <a:chOff x="4267080" y="1876320"/>
            <a:chExt cx="3581640" cy="1447920"/>
          </a:xfrm>
        </p:grpSpPr>
        <p:sp>
          <p:nvSpPr>
            <p:cNvPr id="166" name=""/>
            <p:cNvSpPr/>
            <p:nvPr/>
          </p:nvSpPr>
          <p:spPr>
            <a:xfrm>
              <a:off x="4267080" y="2409840"/>
              <a:ext cx="3581640" cy="380880"/>
            </a:xfrm>
            <a:prstGeom prst="leftRightArrow">
              <a:avLst>
                <a:gd name="adj1" fmla="val 50000"/>
                <a:gd name="adj2" fmla="val 89900"/>
              </a:avLst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6324480" y="2409840"/>
              <a:ext cx="1447920" cy="380880"/>
            </a:xfrm>
            <a:prstGeom prst="leftRightArrow">
              <a:avLst>
                <a:gd name="adj1" fmla="val 50000"/>
                <a:gd name="adj2" fmla="val 36343"/>
              </a:avLst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4572000" y="2409840"/>
              <a:ext cx="1447920" cy="380880"/>
            </a:xfrm>
            <a:prstGeom prst="leftRightArrow">
              <a:avLst>
                <a:gd name="adj1" fmla="val 50000"/>
                <a:gd name="adj2" fmla="val 36343"/>
              </a:avLst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2257560"/>
              <a:ext cx="1447920" cy="67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UNUTARNJ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SABIR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19720" y="657360"/>
            <a:ext cx="3276360" cy="1208880"/>
            <a:chOff x="4419720" y="657360"/>
            <a:chExt cx="3276360" cy="1208880"/>
          </a:xfrm>
        </p:grpSpPr>
        <p:sp>
          <p:nvSpPr>
            <p:cNvPr id="171" name=""/>
            <p:cNvSpPr/>
            <p:nvPr/>
          </p:nvSpPr>
          <p:spPr>
            <a:xfrm>
              <a:off x="4419720" y="1190520"/>
              <a:ext cx="1752480" cy="675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MEĐUSPREMNIK PODATKOVNE SABIRN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62720" y="657360"/>
              <a:ext cx="213336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8-BITNA PODATKOVNA SABIR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5067360" y="771480"/>
              <a:ext cx="457200" cy="380880"/>
            </a:xfrm>
            <a:prstGeom prst="leftRightArrow">
              <a:avLst>
                <a:gd name="adj1" fmla="val 50000"/>
                <a:gd name="adj2" fmla="val 25630"/>
              </a:avLst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09480" y="2824200"/>
            <a:ext cx="1524240" cy="2210400"/>
            <a:chOff x="609480" y="2824200"/>
            <a:chExt cx="1524240" cy="2210400"/>
          </a:xfrm>
        </p:grpSpPr>
        <p:sp>
          <p:nvSpPr>
            <p:cNvPr id="175" name=""/>
            <p:cNvSpPr/>
            <p:nvPr/>
          </p:nvSpPr>
          <p:spPr>
            <a:xfrm>
              <a:off x="1146240" y="282420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2120" y="4572000"/>
              <a:ext cx="121896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KONTROLNA SABIR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480" y="3429000"/>
              <a:ext cx="1524240" cy="675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VREMENSKA I KONTROLNA JEDI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1104840" y="4152960"/>
              <a:ext cx="457200" cy="380880"/>
            </a:xfrm>
            <a:prstGeom prst="leftRightArrow">
              <a:avLst>
                <a:gd name="adj1" fmla="val 50000"/>
                <a:gd name="adj2" fmla="val 25630"/>
              </a:avLst>
            </a:prstGeom>
            <a:solidFill>
              <a:srgbClr val="a3b2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324480" y="3580920"/>
            <a:ext cx="2667240" cy="1362600"/>
            <a:chOff x="6324480" y="3580920"/>
            <a:chExt cx="2667240" cy="1362600"/>
          </a:xfrm>
        </p:grpSpPr>
        <p:sp>
          <p:nvSpPr>
            <p:cNvPr id="180" name=""/>
            <p:cNvSpPr/>
            <p:nvPr/>
          </p:nvSpPr>
          <p:spPr>
            <a:xfrm>
              <a:off x="6324480" y="3809880"/>
              <a:ext cx="26672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adrži operand prije aritmetičke ili logičke operacije i rezultat nakon n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7086600" y="3580920"/>
              <a:ext cx="763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562720" y="152280"/>
            <a:ext cx="3429000" cy="1219320"/>
            <a:chOff x="5562720" y="152280"/>
            <a:chExt cx="3429000" cy="1219320"/>
          </a:xfrm>
        </p:grpSpPr>
        <p:sp>
          <p:nvSpPr>
            <p:cNvPr id="183" name=""/>
            <p:cNvSpPr/>
            <p:nvPr/>
          </p:nvSpPr>
          <p:spPr>
            <a:xfrm>
              <a:off x="5562720" y="152280"/>
              <a:ext cx="3429000" cy="85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adrži drugi operand za ALU, koji se pribavlja iz memorije ili drugih regist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38880" y="1066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752480" y="3429000"/>
            <a:ext cx="2667240" cy="585000"/>
            <a:chOff x="1752480" y="3429000"/>
            <a:chExt cx="2667240" cy="585000"/>
          </a:xfrm>
        </p:grpSpPr>
        <p:sp>
          <p:nvSpPr>
            <p:cNvPr id="186" name=""/>
            <p:cNvSpPr/>
            <p:nvPr/>
          </p:nvSpPr>
          <p:spPr>
            <a:xfrm>
              <a:off x="1752480" y="3429000"/>
              <a:ext cx="266724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adrži registre opće i posebne namje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38480" y="3809880"/>
              <a:ext cx="3812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09480" y="4647960"/>
            <a:ext cx="3810240" cy="1362600"/>
            <a:chOff x="609480" y="4647960"/>
            <a:chExt cx="3810240" cy="1362600"/>
          </a:xfrm>
        </p:grpSpPr>
        <p:sp>
          <p:nvSpPr>
            <p:cNvPr id="189" name=""/>
            <p:cNvSpPr/>
            <p:nvPr/>
          </p:nvSpPr>
          <p:spPr>
            <a:xfrm>
              <a:off x="609480" y="4876920"/>
              <a:ext cx="373392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adrži adresu podatka kojemu će se pristupiti u memoriji ili U/I. Također uvećava ili umanjuje 16-bitne registre z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581280" y="4647960"/>
              <a:ext cx="838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209680" y="1066680"/>
            <a:ext cx="2090880" cy="1143000"/>
            <a:chOff x="2209680" y="1066680"/>
            <a:chExt cx="2090880" cy="1143000"/>
          </a:xfrm>
        </p:grpSpPr>
        <p:sp>
          <p:nvSpPr>
            <p:cNvPr id="192" name=""/>
            <p:cNvSpPr/>
            <p:nvPr/>
          </p:nvSpPr>
          <p:spPr>
            <a:xfrm>
              <a:off x="2209680" y="1066680"/>
              <a:ext cx="2090880" cy="85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adrži instrukciju koja se trenutno izvrša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76720" y="19810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981080" y="3733920"/>
            <a:ext cx="2090880" cy="1240200"/>
            <a:chOff x="1981080" y="3733920"/>
            <a:chExt cx="2090880" cy="1240200"/>
          </a:xfrm>
        </p:grpSpPr>
        <p:sp>
          <p:nvSpPr>
            <p:cNvPr id="195" name=""/>
            <p:cNvSpPr/>
            <p:nvPr/>
          </p:nvSpPr>
          <p:spPr>
            <a:xfrm>
              <a:off x="1981080" y="4114800"/>
              <a:ext cx="2090880" cy="85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aje osnovne signale kontrole sabirn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133720" y="3733920"/>
              <a:ext cx="761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04920" y="2743200"/>
            <a:ext cx="8534160" cy="2047680"/>
            <a:chOff x="304920" y="2743200"/>
            <a:chExt cx="8534160" cy="2047680"/>
          </a:xfrm>
        </p:grpSpPr>
        <p:sp>
          <p:nvSpPr>
            <p:cNvPr id="198" name=""/>
            <p:cNvSpPr/>
            <p:nvPr/>
          </p:nvSpPr>
          <p:spPr>
            <a:xfrm>
              <a:off x="304920" y="2743200"/>
              <a:ext cx="853416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38280" y="3048120"/>
              <a:ext cx="4267440" cy="1742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REGISTR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POSEB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NAMJE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04920" y="1828800"/>
            <a:ext cx="8534160" cy="110268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GISTRI OPĆE NAMJ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gramski model Z80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0" y="1828800"/>
            <a:ext cx="4267080" cy="889200"/>
            <a:chOff x="4572000" y="1828800"/>
            <a:chExt cx="4267080" cy="889200"/>
          </a:xfrm>
        </p:grpSpPr>
        <p:grpSp>
          <p:nvGrpSpPr>
            <p:cNvPr id="203" name=""/>
            <p:cNvGrpSpPr/>
            <p:nvPr/>
          </p:nvGrpSpPr>
          <p:grpSpPr>
            <a:xfrm>
              <a:off x="4572000" y="1828800"/>
              <a:ext cx="4267080" cy="279720"/>
              <a:chOff x="4572000" y="1828800"/>
              <a:chExt cx="4267080" cy="279720"/>
            </a:xfrm>
          </p:grpSpPr>
          <p:sp>
            <p:nvSpPr>
              <p:cNvPr id="204" name=""/>
              <p:cNvSpPr/>
              <p:nvPr/>
            </p:nvSpPr>
            <p:spPr>
              <a:xfrm>
                <a:off x="6705720" y="1828800"/>
                <a:ext cx="2133360" cy="279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C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72000" y="1828800"/>
                <a:ext cx="2133720" cy="279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B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572000" y="2133720"/>
              <a:ext cx="4267080" cy="279720"/>
              <a:chOff x="4572000" y="2133720"/>
              <a:chExt cx="4267080" cy="279720"/>
            </a:xfrm>
          </p:grpSpPr>
          <p:sp>
            <p:nvSpPr>
              <p:cNvPr id="207" name=""/>
              <p:cNvSpPr/>
              <p:nvPr/>
            </p:nvSpPr>
            <p:spPr>
              <a:xfrm>
                <a:off x="6705720" y="2133720"/>
                <a:ext cx="2133360" cy="279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E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572000" y="2133720"/>
                <a:ext cx="2133720" cy="279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D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4572000" y="2438280"/>
              <a:ext cx="4267080" cy="279720"/>
              <a:chOff x="4572000" y="2438280"/>
              <a:chExt cx="4267080" cy="279720"/>
            </a:xfrm>
          </p:grpSpPr>
          <p:sp>
            <p:nvSpPr>
              <p:cNvPr id="210" name=""/>
              <p:cNvSpPr/>
              <p:nvPr/>
            </p:nvSpPr>
            <p:spPr>
              <a:xfrm>
                <a:off x="6705720" y="2438280"/>
                <a:ext cx="2133360" cy="279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L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72000" y="2438280"/>
                <a:ext cx="2133720" cy="279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H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" name=""/>
          <p:cNvGrpSpPr/>
          <p:nvPr/>
        </p:nvGrpSpPr>
        <p:grpSpPr>
          <a:xfrm>
            <a:off x="304920" y="1828800"/>
            <a:ext cx="4267080" cy="889200"/>
            <a:chOff x="304920" y="1828800"/>
            <a:chExt cx="4267080" cy="889200"/>
          </a:xfrm>
        </p:grpSpPr>
        <p:grpSp>
          <p:nvGrpSpPr>
            <p:cNvPr id="213" name=""/>
            <p:cNvGrpSpPr/>
            <p:nvPr/>
          </p:nvGrpSpPr>
          <p:grpSpPr>
            <a:xfrm>
              <a:off x="304920" y="1828800"/>
              <a:ext cx="4267080" cy="279720"/>
              <a:chOff x="304920" y="1828800"/>
              <a:chExt cx="4267080" cy="279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04920" y="1828800"/>
                <a:ext cx="2133360" cy="279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438280" y="1828800"/>
                <a:ext cx="2133720" cy="279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304920" y="2133720"/>
              <a:ext cx="4267080" cy="279720"/>
              <a:chOff x="304920" y="2133720"/>
              <a:chExt cx="4267080" cy="279720"/>
            </a:xfrm>
          </p:grpSpPr>
          <p:sp>
            <p:nvSpPr>
              <p:cNvPr id="217" name=""/>
              <p:cNvSpPr/>
              <p:nvPr/>
            </p:nvSpPr>
            <p:spPr>
              <a:xfrm>
                <a:off x="304920" y="2133720"/>
                <a:ext cx="2133360" cy="279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438280" y="2133720"/>
                <a:ext cx="2133720" cy="279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304920" y="2438280"/>
              <a:ext cx="4267080" cy="279720"/>
              <a:chOff x="304920" y="2438280"/>
              <a:chExt cx="4267080" cy="279720"/>
            </a:xfrm>
          </p:grpSpPr>
          <p:sp>
            <p:nvSpPr>
              <p:cNvPr id="220" name=""/>
              <p:cNvSpPr/>
              <p:nvPr/>
            </p:nvSpPr>
            <p:spPr>
              <a:xfrm>
                <a:off x="304920" y="2438280"/>
                <a:ext cx="2133360" cy="279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438280" y="2438280"/>
                <a:ext cx="2133720" cy="279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2" name=""/>
          <p:cNvGrpSpPr/>
          <p:nvPr/>
        </p:nvGrpSpPr>
        <p:grpSpPr>
          <a:xfrm>
            <a:off x="4572000" y="2743200"/>
            <a:ext cx="4267080" cy="279720"/>
            <a:chOff x="4572000" y="2743200"/>
            <a:chExt cx="4267080" cy="279720"/>
          </a:xfrm>
        </p:grpSpPr>
        <p:sp>
          <p:nvSpPr>
            <p:cNvPr id="223" name=""/>
            <p:cNvSpPr/>
            <p:nvPr/>
          </p:nvSpPr>
          <p:spPr>
            <a:xfrm>
              <a:off x="6705720" y="2743200"/>
              <a:ext cx="213336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0" y="2743200"/>
              <a:ext cx="213372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04920" y="2743200"/>
            <a:ext cx="4267080" cy="279720"/>
            <a:chOff x="304920" y="2743200"/>
            <a:chExt cx="4267080" cy="279720"/>
          </a:xfrm>
        </p:grpSpPr>
        <p:sp>
          <p:nvSpPr>
            <p:cNvPr id="226" name=""/>
            <p:cNvSpPr/>
            <p:nvPr/>
          </p:nvSpPr>
          <p:spPr>
            <a:xfrm>
              <a:off x="304920" y="2743200"/>
              <a:ext cx="213336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38280" y="2743200"/>
              <a:ext cx="213372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04920" y="1295280"/>
            <a:ext cx="4267080" cy="456840"/>
            <a:chOff x="304920" y="1295280"/>
            <a:chExt cx="4267080" cy="456840"/>
          </a:xfrm>
        </p:grpSpPr>
        <p:sp>
          <p:nvSpPr>
            <p:cNvPr id="229" name=""/>
            <p:cNvSpPr/>
            <p:nvPr/>
          </p:nvSpPr>
          <p:spPr>
            <a:xfrm rot="16200000">
              <a:off x="2362320" y="-457200"/>
              <a:ext cx="152280" cy="4267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11240 h 4267080"/>
                <a:gd name="textAreaBottom" fmla="*/ 4155840 h 426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47920" y="1295280"/>
              <a:ext cx="1981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OSNOVNI REGIST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572000" y="1295280"/>
            <a:ext cx="4267080" cy="456840"/>
            <a:chOff x="4572000" y="1295280"/>
            <a:chExt cx="4267080" cy="456840"/>
          </a:xfrm>
        </p:grpSpPr>
        <p:sp>
          <p:nvSpPr>
            <p:cNvPr id="232" name=""/>
            <p:cNvSpPr/>
            <p:nvPr/>
          </p:nvSpPr>
          <p:spPr>
            <a:xfrm rot="16200000">
              <a:off x="6629400" y="-457200"/>
              <a:ext cx="152280" cy="4267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11240 h 4267080"/>
                <a:gd name="textAreaBottom" fmla="*/ 4155840 h 426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15000" y="1295280"/>
              <a:ext cx="1981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POMOĆNI REGIST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870600" y="3225960"/>
            <a:ext cx="1981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DEKSNI REGI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438280" y="3657600"/>
            <a:ext cx="6413760" cy="300240"/>
            <a:chOff x="2438280" y="3657600"/>
            <a:chExt cx="6413760" cy="300240"/>
          </a:xfrm>
        </p:grpSpPr>
        <p:sp>
          <p:nvSpPr>
            <p:cNvPr id="236" name=""/>
            <p:cNvSpPr/>
            <p:nvPr/>
          </p:nvSpPr>
          <p:spPr>
            <a:xfrm>
              <a:off x="2438280" y="3657600"/>
              <a:ext cx="426744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70600" y="3708360"/>
              <a:ext cx="19814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POKAZIVAČ STOG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438280" y="3048120"/>
            <a:ext cx="4267440" cy="584280"/>
            <a:chOff x="2438280" y="3048120"/>
            <a:chExt cx="4267440" cy="584280"/>
          </a:xfrm>
        </p:grpSpPr>
        <p:sp>
          <p:nvSpPr>
            <p:cNvPr id="239" name=""/>
            <p:cNvSpPr/>
            <p:nvPr/>
          </p:nvSpPr>
          <p:spPr>
            <a:xfrm>
              <a:off x="2438280" y="3048120"/>
              <a:ext cx="426744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I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38280" y="3352680"/>
              <a:ext cx="426744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I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514600" y="5486400"/>
            <a:ext cx="21337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DRŽI VIŠI BYTE ADRESE POKAZIVAČA NA PREKIDNU RUTI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438280" y="3962520"/>
            <a:ext cx="6629400" cy="279720"/>
            <a:chOff x="2438280" y="3962520"/>
            <a:chExt cx="6629400" cy="279720"/>
          </a:xfrm>
        </p:grpSpPr>
        <p:sp>
          <p:nvSpPr>
            <p:cNvPr id="243" name=""/>
            <p:cNvSpPr/>
            <p:nvPr/>
          </p:nvSpPr>
          <p:spPr>
            <a:xfrm>
              <a:off x="2438280" y="3962520"/>
              <a:ext cx="426744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58000" y="3962520"/>
              <a:ext cx="22096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PROGRAMSKO BROJI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438280" y="4267080"/>
            <a:ext cx="2210040" cy="1072440"/>
            <a:chOff x="2438280" y="4267080"/>
            <a:chExt cx="2210040" cy="1072440"/>
          </a:xfrm>
        </p:grpSpPr>
        <p:sp>
          <p:nvSpPr>
            <p:cNvPr id="246" name=""/>
            <p:cNvSpPr/>
            <p:nvPr/>
          </p:nvSpPr>
          <p:spPr>
            <a:xfrm>
              <a:off x="2438280" y="4267080"/>
              <a:ext cx="213372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6200000">
              <a:off x="3390840" y="3619080"/>
              <a:ext cx="228600" cy="2133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38280" y="4876920"/>
              <a:ext cx="22100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EGISTAR PREKIDNOG VEKTO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572000" y="4267080"/>
            <a:ext cx="2286000" cy="1072440"/>
            <a:chOff x="4572000" y="4267080"/>
            <a:chExt cx="2286000" cy="1072440"/>
          </a:xfrm>
        </p:grpSpPr>
        <p:sp>
          <p:nvSpPr>
            <p:cNvPr id="250" name=""/>
            <p:cNvSpPr/>
            <p:nvPr/>
          </p:nvSpPr>
          <p:spPr>
            <a:xfrm>
              <a:off x="4572000" y="4267080"/>
              <a:ext cx="213372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8320" y="4876920"/>
              <a:ext cx="220968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EGISTAR OSVJEŽAVANJA DINAMIČKE MEMORIJ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5524560" y="3619080"/>
              <a:ext cx="228600" cy="2133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28600" y="3123720"/>
            <a:ext cx="2209680" cy="478440"/>
            <a:chOff x="228600" y="3123720"/>
            <a:chExt cx="2209680" cy="478440"/>
          </a:xfrm>
        </p:grpSpPr>
        <p:sp>
          <p:nvSpPr>
            <p:cNvPr id="254" name=""/>
            <p:cNvSpPr/>
            <p:nvPr/>
          </p:nvSpPr>
          <p:spPr>
            <a:xfrm rot="16200000">
              <a:off x="1257120" y="217116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8600" y="3352680"/>
              <a:ext cx="22096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UŽINA 8 BI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438280" y="4267080"/>
            <a:ext cx="4267080" cy="554400"/>
            <a:chOff x="2438280" y="4267080"/>
            <a:chExt cx="4267080" cy="554400"/>
          </a:xfrm>
        </p:grpSpPr>
        <p:sp>
          <p:nvSpPr>
            <p:cNvPr id="257" name=""/>
            <p:cNvSpPr/>
            <p:nvPr/>
          </p:nvSpPr>
          <p:spPr>
            <a:xfrm rot="16200000">
              <a:off x="4428720" y="2276280"/>
              <a:ext cx="285840" cy="4267080"/>
            </a:xfrm>
            <a:custGeom>
              <a:avLst/>
              <a:gdLst>
                <a:gd name="textAreaLeft" fmla="*/ 182520 w 285840"/>
                <a:gd name="textAreaRight" fmla="*/ 286200 w 285840"/>
                <a:gd name="textAreaTop" fmla="*/ 111240 h 4267080"/>
                <a:gd name="textAreaBottom" fmla="*/ 4155840 h 426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34720" y="4572000"/>
              <a:ext cx="16192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DUŽINA 16 BI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04920" y="3580920"/>
            <a:ext cx="4267080" cy="767880"/>
            <a:chOff x="304920" y="3580920"/>
            <a:chExt cx="4267080" cy="767880"/>
          </a:xfrm>
        </p:grpSpPr>
        <p:sp>
          <p:nvSpPr>
            <p:cNvPr id="260" name=""/>
            <p:cNvSpPr/>
            <p:nvPr/>
          </p:nvSpPr>
          <p:spPr>
            <a:xfrm>
              <a:off x="457200" y="3886200"/>
              <a:ext cx="411480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EGISTARSKI PAROVI BC, DE I HL KORISTE SE ZA ČUVANJE 16-BITNOG PODATK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6200000">
              <a:off x="2324160" y="1561680"/>
              <a:ext cx="228600" cy="42670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1240 h 4267080"/>
                <a:gd name="textAreaBottom" fmla="*/ 4155840 h 426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086600" y="3505320"/>
            <a:ext cx="14479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ORISTE SE ZA INDEKSIRANO ADRESIR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0" y="3962520"/>
            <a:ext cx="21337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KAZIVAČ NA ADRESU POSLJEDNJEG PODATKA NA STO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0" y="4267080"/>
            <a:ext cx="21337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DRŽI ADRESU SLIJEDEĆE INSTRUKCI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762120" y="3733920"/>
            <a:ext cx="7578720" cy="380880"/>
            <a:chOff x="762120" y="3733920"/>
            <a:chExt cx="7578720" cy="380880"/>
          </a:xfrm>
        </p:grpSpPr>
        <p:grpSp>
          <p:nvGrpSpPr>
            <p:cNvPr id="266" name=""/>
            <p:cNvGrpSpPr/>
            <p:nvPr/>
          </p:nvGrpSpPr>
          <p:grpSpPr>
            <a:xfrm>
              <a:off x="766800" y="3736440"/>
              <a:ext cx="7569360" cy="375480"/>
              <a:chOff x="766800" y="3736440"/>
              <a:chExt cx="7569360" cy="37548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766800" y="3736440"/>
                <a:ext cx="946080" cy="375480"/>
                <a:chOff x="766800" y="3736440"/>
                <a:chExt cx="946080" cy="3754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835200" y="3736440"/>
                  <a:ext cx="809640" cy="375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66800" y="3736440"/>
                  <a:ext cx="946080" cy="3754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1712880" y="3736440"/>
                <a:ext cx="946080" cy="375480"/>
                <a:chOff x="1712880" y="3736440"/>
                <a:chExt cx="946080" cy="3754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781280" y="3736440"/>
                  <a:ext cx="809640" cy="375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Z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712880" y="3736440"/>
                  <a:ext cx="946080" cy="3754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658960" y="3736440"/>
                <a:ext cx="946440" cy="375480"/>
                <a:chOff x="2658960" y="3736440"/>
                <a:chExt cx="946440" cy="3754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658960" y="3736440"/>
                  <a:ext cx="946440" cy="375480"/>
                </a:xfrm>
                <a:prstGeom prst="rect">
                  <a:avLst/>
                </a:prstGeom>
                <a:solidFill>
                  <a:srgbClr val="99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2658960" y="3736440"/>
                  <a:ext cx="946440" cy="375480"/>
                  <a:chOff x="2658960" y="3736440"/>
                  <a:chExt cx="946440" cy="3754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2727360" y="3736440"/>
                    <a:ext cx="809640" cy="375480"/>
                  </a:xfrm>
                  <a:prstGeom prst="rect">
                    <a:avLst/>
                  </a:prstGeom>
                  <a:solidFill>
                    <a:srgbClr val="99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658960" y="3736440"/>
                    <a:ext cx="946440" cy="37548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8" name=""/>
              <p:cNvGrpSpPr/>
              <p:nvPr/>
            </p:nvGrpSpPr>
            <p:grpSpPr>
              <a:xfrm>
                <a:off x="3605400" y="3736440"/>
                <a:ext cx="946080" cy="375480"/>
                <a:chOff x="3605400" y="3736440"/>
                <a:chExt cx="946080" cy="3754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3673440" y="3736440"/>
                  <a:ext cx="809640" cy="375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605400" y="3736440"/>
                  <a:ext cx="946080" cy="3754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4551480" y="3736440"/>
                <a:ext cx="946080" cy="375480"/>
                <a:chOff x="4551480" y="3736440"/>
                <a:chExt cx="946080" cy="37548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4551480" y="3736440"/>
                  <a:ext cx="946080" cy="375480"/>
                </a:xfrm>
                <a:prstGeom prst="rect">
                  <a:avLst/>
                </a:prstGeom>
                <a:solidFill>
                  <a:srgbClr val="9999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3" name=""/>
                <p:cNvGrpSpPr/>
                <p:nvPr/>
              </p:nvGrpSpPr>
              <p:grpSpPr>
                <a:xfrm>
                  <a:off x="4551480" y="3736440"/>
                  <a:ext cx="946080" cy="375480"/>
                  <a:chOff x="4551480" y="3736440"/>
                  <a:chExt cx="946080" cy="3754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619520" y="3736440"/>
                    <a:ext cx="809640" cy="375480"/>
                  </a:xfrm>
                  <a:prstGeom prst="rect">
                    <a:avLst/>
                  </a:prstGeom>
                  <a:solidFill>
                    <a:srgbClr val="9999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551480" y="3736440"/>
                    <a:ext cx="946080" cy="375480"/>
                  </a:xfrm>
                  <a:prstGeom prst="rect">
                    <a:avLst/>
                  </a:pr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6" name=""/>
              <p:cNvGrpSpPr/>
              <p:nvPr/>
            </p:nvGrpSpPr>
            <p:grpSpPr>
              <a:xfrm>
                <a:off x="5497560" y="3736440"/>
                <a:ext cx="946080" cy="375480"/>
                <a:chOff x="5497560" y="3736440"/>
                <a:chExt cx="946080" cy="3754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5565960" y="3736440"/>
                  <a:ext cx="809640" cy="375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/V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497560" y="3736440"/>
                  <a:ext cx="946080" cy="3754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6443640" y="3736440"/>
                <a:ext cx="946080" cy="375480"/>
                <a:chOff x="6443640" y="3736440"/>
                <a:chExt cx="946080" cy="3754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6512040" y="3736440"/>
                  <a:ext cx="809640" cy="375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443640" y="3736440"/>
                  <a:ext cx="946080" cy="3754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7389720" y="3736440"/>
                <a:ext cx="946440" cy="375480"/>
                <a:chOff x="7389720" y="3736440"/>
                <a:chExt cx="946440" cy="375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7458120" y="3736440"/>
                  <a:ext cx="809640" cy="375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389720" y="3736440"/>
                  <a:ext cx="946440" cy="3754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5" name=""/>
            <p:cNvSpPr/>
            <p:nvPr/>
          </p:nvSpPr>
          <p:spPr>
            <a:xfrm>
              <a:off x="762120" y="3733920"/>
              <a:ext cx="75787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219320" y="1522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i 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NI REGISTRI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DRŽAVAJU ZASTAVICE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449568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 fla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stavica predznak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5670720"/>
            <a:ext cx="3200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ako je rezultat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metičke ili logičke operaci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gativa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666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81080" y="3276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2438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er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a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stavica nule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990720"/>
            <a:ext cx="3429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ako je rezultat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itmetičke ili logičke operacij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nul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9810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449568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f-carry fla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stavica polovičnog (pomoćnog) prijenos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57913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trebljava se u BCD aritmetic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95680" y="228600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ty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flow fla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stavica parnosti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v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50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1905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114800" y="99072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 aritmetičkih operacija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liva 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- 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kružnog posmaka i logičkih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cija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487692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/substract fla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stavica zbrajanja i oduzimanj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615636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za sve instrukcije oduzimanja 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N=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sv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kcije zbraj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24382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y fla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stavica prijenos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morijsko adresno područj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5257800"/>
            <a:ext cx="9144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905120" y="4191120"/>
            <a:ext cx="2438280" cy="2413080"/>
            <a:chOff x="1905120" y="4191120"/>
            <a:chExt cx="2438280" cy="2413080"/>
          </a:xfrm>
        </p:grpSpPr>
        <p:sp>
          <p:nvSpPr>
            <p:cNvPr id="322" name=""/>
            <p:cNvSpPr/>
            <p:nvPr/>
          </p:nvSpPr>
          <p:spPr>
            <a:xfrm>
              <a:off x="2438280" y="6324480"/>
              <a:ext cx="190512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ST 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1905120" y="6019920"/>
              <a:ext cx="2437920" cy="325440"/>
              <a:chOff x="1905120" y="6019920"/>
              <a:chExt cx="2437920" cy="325440"/>
            </a:xfrm>
          </p:grpSpPr>
          <p:sp>
            <p:nvSpPr>
              <p:cNvPr id="324" name=""/>
              <p:cNvSpPr/>
              <p:nvPr/>
            </p:nvSpPr>
            <p:spPr>
              <a:xfrm>
                <a:off x="2438280" y="6019920"/>
                <a:ext cx="1904760" cy="279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RS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905120" y="6095880"/>
                <a:ext cx="53316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0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1905120" y="5715000"/>
              <a:ext cx="2437920" cy="325440"/>
              <a:chOff x="1905120" y="5715000"/>
              <a:chExt cx="2437920" cy="325440"/>
            </a:xfrm>
          </p:grpSpPr>
          <p:sp>
            <p:nvSpPr>
              <p:cNvPr id="327" name=""/>
              <p:cNvSpPr/>
              <p:nvPr/>
            </p:nvSpPr>
            <p:spPr>
              <a:xfrm>
                <a:off x="2438280" y="5715000"/>
                <a:ext cx="1904760" cy="279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RS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05120" y="5790960"/>
                <a:ext cx="53316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1905120" y="5410080"/>
              <a:ext cx="2437920" cy="325440"/>
              <a:chOff x="1905120" y="5410080"/>
              <a:chExt cx="2437920" cy="325440"/>
            </a:xfrm>
          </p:grpSpPr>
          <p:sp>
            <p:nvSpPr>
              <p:cNvPr id="330" name=""/>
              <p:cNvSpPr/>
              <p:nvPr/>
            </p:nvSpPr>
            <p:spPr>
              <a:xfrm>
                <a:off x="2438280" y="5410080"/>
                <a:ext cx="1904760" cy="279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RS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905120" y="5486040"/>
                <a:ext cx="53316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001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1905120" y="5105520"/>
              <a:ext cx="2437920" cy="325440"/>
              <a:chOff x="1905120" y="5105520"/>
              <a:chExt cx="2437920" cy="325440"/>
            </a:xfrm>
          </p:grpSpPr>
          <p:sp>
            <p:nvSpPr>
              <p:cNvPr id="333" name=""/>
              <p:cNvSpPr/>
              <p:nvPr/>
            </p:nvSpPr>
            <p:spPr>
              <a:xfrm>
                <a:off x="2438280" y="5105520"/>
                <a:ext cx="1904760" cy="279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RST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905120" y="5181480"/>
                <a:ext cx="53316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002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905120" y="4800600"/>
              <a:ext cx="2437920" cy="325440"/>
              <a:chOff x="1905120" y="4800600"/>
              <a:chExt cx="2437920" cy="325440"/>
            </a:xfrm>
          </p:grpSpPr>
          <p:sp>
            <p:nvSpPr>
              <p:cNvPr id="336" name=""/>
              <p:cNvSpPr/>
              <p:nvPr/>
            </p:nvSpPr>
            <p:spPr>
              <a:xfrm>
                <a:off x="2438280" y="4800600"/>
                <a:ext cx="1904760" cy="279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RST 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05120" y="4876560"/>
                <a:ext cx="53316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002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1905120" y="4495680"/>
              <a:ext cx="2437920" cy="325440"/>
              <a:chOff x="1905120" y="4495680"/>
              <a:chExt cx="2437920" cy="325440"/>
            </a:xfrm>
          </p:grpSpPr>
          <p:sp>
            <p:nvSpPr>
              <p:cNvPr id="339" name=""/>
              <p:cNvSpPr/>
              <p:nvPr/>
            </p:nvSpPr>
            <p:spPr>
              <a:xfrm>
                <a:off x="2438280" y="4495680"/>
                <a:ext cx="1904760" cy="279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RST 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05120" y="4571640"/>
                <a:ext cx="53316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003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1905120" y="4191120"/>
              <a:ext cx="2437920" cy="325440"/>
              <a:chOff x="1905120" y="4191120"/>
              <a:chExt cx="2437920" cy="325440"/>
            </a:xfrm>
          </p:grpSpPr>
          <p:sp>
            <p:nvSpPr>
              <p:cNvPr id="342" name=""/>
              <p:cNvSpPr/>
              <p:nvPr/>
            </p:nvSpPr>
            <p:spPr>
              <a:xfrm>
                <a:off x="2438280" y="4191120"/>
                <a:ext cx="1904760" cy="279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RST 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05120" y="4267080"/>
                <a:ext cx="533160" cy="2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Verdana"/>
                  </a:rPr>
                  <a:t>003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1905120" y="3048120"/>
            <a:ext cx="2437920" cy="325440"/>
            <a:chOff x="1905120" y="3048120"/>
            <a:chExt cx="2437920" cy="325440"/>
          </a:xfrm>
        </p:grpSpPr>
        <p:sp>
          <p:nvSpPr>
            <p:cNvPr id="345" name=""/>
            <p:cNvSpPr/>
            <p:nvPr/>
          </p:nvSpPr>
          <p:spPr>
            <a:xfrm>
              <a:off x="2438280" y="3048120"/>
              <a:ext cx="190476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NM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05120" y="312408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006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343400" y="4191120"/>
            <a:ext cx="152280" cy="2438280"/>
          </a:xfrm>
          <a:custGeom>
            <a:avLst/>
            <a:gdLst>
              <a:gd name="textAreaLeft" fmla="*/ 0 w 152280"/>
              <a:gd name="textAreaRight" fmla="*/ 55080 w 1522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905120" y="990720"/>
            <a:ext cx="2438280" cy="5659560"/>
            <a:chOff x="1905120" y="990720"/>
            <a:chExt cx="2438280" cy="5659560"/>
          </a:xfrm>
        </p:grpSpPr>
        <p:sp>
          <p:nvSpPr>
            <p:cNvPr id="349" name=""/>
            <p:cNvSpPr/>
            <p:nvPr/>
          </p:nvSpPr>
          <p:spPr>
            <a:xfrm>
              <a:off x="1905120" y="640080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0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05120" y="99072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FF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0800000">
              <a:off x="2438280" y="2361960"/>
              <a:ext cx="1905120" cy="685800"/>
            </a:xfrm>
            <a:prstGeom prst="flowChartDocumen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38280" y="990720"/>
              <a:ext cx="1905120" cy="1143000"/>
            </a:xfrm>
            <a:prstGeom prst="flowChartDocumen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38280" y="3048120"/>
              <a:ext cx="1905120" cy="3581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343400" y="2971800"/>
            <a:ext cx="1905120" cy="462600"/>
            <a:chOff x="4343400" y="2971800"/>
            <a:chExt cx="1905120" cy="462600"/>
          </a:xfrm>
        </p:grpSpPr>
        <p:sp>
          <p:nvSpPr>
            <p:cNvPr id="355" name=""/>
            <p:cNvSpPr/>
            <p:nvPr/>
          </p:nvSpPr>
          <p:spPr>
            <a:xfrm flipH="1">
              <a:off x="4343400" y="3200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76920" y="2971800"/>
              <a:ext cx="137160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NEMASKIRANI PREK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343400" y="990720"/>
            <a:ext cx="1828800" cy="2057400"/>
            <a:chOff x="4343400" y="990720"/>
            <a:chExt cx="1828800" cy="2057400"/>
          </a:xfrm>
        </p:grpSpPr>
        <p:sp>
          <p:nvSpPr>
            <p:cNvPr id="358" name=""/>
            <p:cNvSpPr/>
            <p:nvPr/>
          </p:nvSpPr>
          <p:spPr>
            <a:xfrm>
              <a:off x="4343400" y="990720"/>
              <a:ext cx="152280" cy="2057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95680" y="1905120"/>
              <a:ext cx="1676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KORISNIČKI R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438280" y="609480"/>
            <a:ext cx="1905120" cy="381240"/>
            <a:chOff x="2438280" y="609480"/>
            <a:chExt cx="1905120" cy="381240"/>
          </a:xfrm>
        </p:grpSpPr>
        <p:sp>
          <p:nvSpPr>
            <p:cNvPr id="361" name=""/>
            <p:cNvSpPr/>
            <p:nvPr/>
          </p:nvSpPr>
          <p:spPr>
            <a:xfrm>
              <a:off x="2971800" y="609480"/>
              <a:ext cx="914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8 BI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3314520" y="-38160"/>
              <a:ext cx="152640" cy="190512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343400" y="990720"/>
            <a:ext cx="1828800" cy="5637960"/>
            <a:chOff x="4343400" y="990720"/>
            <a:chExt cx="1828800" cy="5637960"/>
          </a:xfrm>
        </p:grpSpPr>
        <p:sp>
          <p:nvSpPr>
            <p:cNvPr id="364" name=""/>
            <p:cNvSpPr/>
            <p:nvPr/>
          </p:nvSpPr>
          <p:spPr>
            <a:xfrm>
              <a:off x="4343400" y="990720"/>
              <a:ext cx="152280" cy="563796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46880 h 5637960"/>
                <a:gd name="textAreaBottom" fmla="*/ 5491080 h 563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95680" y="3496320"/>
              <a:ext cx="1676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64K LOKACI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80880" y="6527880"/>
            <a:ext cx="1752840" cy="249480"/>
            <a:chOff x="380880" y="6527880"/>
            <a:chExt cx="1752840" cy="249480"/>
          </a:xfrm>
        </p:grpSpPr>
        <p:sp>
          <p:nvSpPr>
            <p:cNvPr id="367" name=""/>
            <p:cNvSpPr/>
            <p:nvPr/>
          </p:nvSpPr>
          <p:spPr>
            <a:xfrm>
              <a:off x="380880" y="6527880"/>
              <a:ext cx="914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RE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7200" y="67564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133720" y="6603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lazno – izlazno adresno područj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752480" y="1828800"/>
            <a:ext cx="2438280" cy="3546720"/>
            <a:chOff x="1752480" y="1828800"/>
            <a:chExt cx="2438280" cy="3546720"/>
          </a:xfrm>
        </p:grpSpPr>
        <p:sp>
          <p:nvSpPr>
            <p:cNvPr id="372" name=""/>
            <p:cNvSpPr/>
            <p:nvPr/>
          </p:nvSpPr>
          <p:spPr>
            <a:xfrm>
              <a:off x="1752480" y="512604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52480" y="1828800"/>
              <a:ext cx="5331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0800000">
              <a:off x="2285640" y="2664360"/>
              <a:ext cx="1905120" cy="417960"/>
            </a:xfrm>
            <a:prstGeom prst="flowChartDocumen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85640" y="1828800"/>
              <a:ext cx="1905120" cy="696600"/>
            </a:xfrm>
            <a:prstGeom prst="flowChartDocumen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85640" y="3082680"/>
              <a:ext cx="1905120" cy="2182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286000" y="1371600"/>
            <a:ext cx="1905120" cy="380520"/>
            <a:chOff x="2286000" y="1371600"/>
            <a:chExt cx="1905120" cy="380520"/>
          </a:xfrm>
        </p:grpSpPr>
        <p:sp>
          <p:nvSpPr>
            <p:cNvPr id="378" name=""/>
            <p:cNvSpPr/>
            <p:nvPr/>
          </p:nvSpPr>
          <p:spPr>
            <a:xfrm>
              <a:off x="2819520" y="1371600"/>
              <a:ext cx="914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8 BI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5400000">
              <a:off x="3162240" y="723240"/>
              <a:ext cx="152280" cy="19051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267080" y="1828800"/>
            <a:ext cx="1828800" cy="3428640"/>
            <a:chOff x="4267080" y="1828800"/>
            <a:chExt cx="1828800" cy="3428640"/>
          </a:xfrm>
        </p:grpSpPr>
        <p:sp>
          <p:nvSpPr>
            <p:cNvPr id="381" name=""/>
            <p:cNvSpPr/>
            <p:nvPr/>
          </p:nvSpPr>
          <p:spPr>
            <a:xfrm>
              <a:off x="4267080" y="1828800"/>
              <a:ext cx="152280" cy="3428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89280 h 3428640"/>
                <a:gd name="textAreaBottom" fmla="*/ 3339360 h 342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19360" y="3352680"/>
              <a:ext cx="16765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256 PORTO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54160" y="5257800"/>
            <a:ext cx="1752480" cy="249480"/>
            <a:chOff x="254160" y="5257800"/>
            <a:chExt cx="1752480" cy="249480"/>
          </a:xfrm>
        </p:grpSpPr>
        <p:sp>
          <p:nvSpPr>
            <p:cNvPr id="384" name=""/>
            <p:cNvSpPr/>
            <p:nvPr/>
          </p:nvSpPr>
          <p:spPr>
            <a:xfrm>
              <a:off x="254160" y="5257800"/>
              <a:ext cx="9140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RE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30120" y="54864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2006640" y="53337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5029200" y="4343400"/>
            <a:ext cx="36576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oj porta je adresa p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029200" y="4876920"/>
            <a:ext cx="36576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/I područje je izolirano od memorijskog adresnog područ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rukcijski se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Instrukcije prijenosa podata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6 tipova prijenosa; reg-reg, neposredno, indeksirano, direktno, ulazno/izlazno, blokovsk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Ne utječu na izmjenu zastavi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Aritmetičke i logičke instrukci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Zbrajanje, oduzimanje, AND, OR, NOT, XOR, posmak, rotacij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Većina ih utječe na izmjenu zastavi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Instrukcije programske kontr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Bezuvjetni i uvjetni skokovi, indirektni skokovi, bezuvjetni i uvjetni pozivi rutina, bezuvjetni i uvjetni povratci iz rutin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Verdana"/>
              </a:rPr>
              <a:t>Za ispitivanje uvjeta koriste zasta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Vježb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liko bitova ima Z80 adresna sabirnic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6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ja je svrha instrukcijskog registr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drži instrukciju koja se trenutno izvršav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 kojem registru se čuvaju rezultati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 akumulatoru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ju funkciju ima C zastavic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Čuva najznačajniji bit nakon zbrajanja, prijenosni bit nakon oduzimanja ili logičku 0 nakon logičkih operacij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ju funkciju ima Z zastavic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kacija da li je rezultat kojeg daje ALU jednak 0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Vježb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liko različitih vanjskih ulaznih uređaja može biti spojeno na Z80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6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je su glavne skupine instrukcij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rukcije prijenosa podatak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itmetičke i logičke instrukci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rukcije programske kontr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ji tip instrukcija ne utječe na izmjenu stanja zastavic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rukcije prijenosa podatak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laganje ispi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Laboratorijske vježb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ocjenjivanje tijekom izvođenja vježbi + kolokvij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Auditorne vježb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redrok ili redovni ispitni rokov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edavan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usmeni isp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teratu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. Ribarić, Arhitektura računa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. Ribarić, Naprednije arhitekture mikroproceso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riručnik za auditorne i laboratorijske vježb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Bilješke s predavanja i vježb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28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vodu Arhitekturu računa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rhitektura računal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Izraz je nastao 60-tih godina u tvrtki IBM, upotrebljavao se za opisivanje programskog modela računala serije IBM 360 na razini asemblerskog jezik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Različite definicije arhitekture računal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Einslow i Flores – algoritmi osnovnih funkcijskih jedin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Joseph – način uređenja strukture sustava da računalo ostvari povećanje propusnosti, prilagodljivosti, pouzdanosti i raspoloživost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Myers – distribucija funkcija prema zadanim razinama gdje je svaka razina jedna apstraktna predodžba računal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ualizam hardvera i softvera briše oštru granicu između hardvera i softvera – sve što je realizirano u hardveru može se realizirati u softveru i obrnut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anas arhitekturu računala definiramo kao izgradnju računalnog sustava koji uključuje sve uređaje koji se spajaju na sustav i sav softver koji se izvodi na sustavu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lasifikacija arhitekture računal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lasifikacija arhitekture računa s obzirom na način izvršavanja instrukcija te instrukcijski tok i tok podatak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1828800"/>
            <a:ext cx="1728720" cy="580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HITEKTURA RAČUN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24000" y="2127240"/>
            <a:ext cx="3303360" cy="1561320"/>
            <a:chOff x="324000" y="2127240"/>
            <a:chExt cx="3303360" cy="1561320"/>
          </a:xfrm>
        </p:grpSpPr>
        <p:sp>
          <p:nvSpPr>
            <p:cNvPr id="93" name=""/>
            <p:cNvSpPr/>
            <p:nvPr/>
          </p:nvSpPr>
          <p:spPr>
            <a:xfrm>
              <a:off x="324000" y="2621160"/>
              <a:ext cx="1728720" cy="10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HITEKTURA UPRAVLJANA TOKOM PODATA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123920" y="2127240"/>
              <a:ext cx="250344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556000" y="2432160"/>
            <a:ext cx="2004840" cy="1242720"/>
            <a:chOff x="2556000" y="2432160"/>
            <a:chExt cx="2004840" cy="1242720"/>
          </a:xfrm>
        </p:grpSpPr>
        <p:sp>
          <p:nvSpPr>
            <p:cNvPr id="96" name=""/>
            <p:cNvSpPr/>
            <p:nvPr/>
          </p:nvSpPr>
          <p:spPr>
            <a:xfrm>
              <a:off x="2556000" y="2850840"/>
              <a:ext cx="172872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HITEKTURA UPRAVLJANA ZAHTJEV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351240" y="2432160"/>
              <a:ext cx="1209600" cy="42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351400" y="2127240"/>
            <a:ext cx="2532240" cy="1462320"/>
            <a:chOff x="5351400" y="2127240"/>
            <a:chExt cx="2532240" cy="1462320"/>
          </a:xfrm>
        </p:grpSpPr>
        <p:sp>
          <p:nvSpPr>
            <p:cNvPr id="99" name=""/>
            <p:cNvSpPr/>
            <p:nvPr/>
          </p:nvSpPr>
          <p:spPr>
            <a:xfrm>
              <a:off x="6012000" y="2765520"/>
              <a:ext cx="18716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HITEKTURA S UPRAVLJAČKIM TOK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51400" y="2127240"/>
              <a:ext cx="1573200" cy="6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556000" y="3614760"/>
            <a:ext cx="4189320" cy="1099800"/>
            <a:chOff x="2556000" y="3614760"/>
            <a:chExt cx="4189320" cy="1099800"/>
          </a:xfrm>
        </p:grpSpPr>
        <p:sp>
          <p:nvSpPr>
            <p:cNvPr id="102" name=""/>
            <p:cNvSpPr/>
            <p:nvPr/>
          </p:nvSpPr>
          <p:spPr>
            <a:xfrm>
              <a:off x="2556000" y="4133880"/>
              <a:ext cx="172872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ALELNA ARHITEK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389400" y="3614760"/>
              <a:ext cx="3355920" cy="47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012000" y="3629160"/>
            <a:ext cx="1728720" cy="1085400"/>
            <a:chOff x="6012000" y="3629160"/>
            <a:chExt cx="1728720" cy="1085400"/>
          </a:xfrm>
        </p:grpSpPr>
        <p:sp>
          <p:nvSpPr>
            <p:cNvPr id="105" name=""/>
            <p:cNvSpPr/>
            <p:nvPr/>
          </p:nvSpPr>
          <p:spPr>
            <a:xfrm>
              <a:off x="6012000" y="4133880"/>
              <a:ext cx="172872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RIJSKA ARHITEK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825960" y="3629160"/>
              <a:ext cx="338040" cy="4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484360" y="4781520"/>
            <a:ext cx="33116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D 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– Single Instruction Stream 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ple Data 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SD – Multiple Instruction Stream 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Data 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MD – Multiple Instruction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am 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ple Data Str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75280" y="4781520"/>
            <a:ext cx="316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ingle Instruction Stream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ata Stream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 (von 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Neumannovo računa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STACK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Verdana"/>
              </a:rPr>
              <a:t>Von Neumannovo računal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etaljan opis računala opće namjene sa pohranjivanjem programa još 1946. godine dali su Burks, Goldstine i von Neuman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Sva današnja konvencionalna računala opće namjene su von Neumannova računal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4111560"/>
            <a:ext cx="1295640" cy="9511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5407200"/>
            <a:ext cx="1295640" cy="1199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orijska jedi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2743200"/>
            <a:ext cx="1295640" cy="9511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/I jedi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72080" y="5264280"/>
            <a:ext cx="1295280" cy="1199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ravljačka jedi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403360" y="3824280"/>
            <a:ext cx="4897440" cy="2664000"/>
            <a:chOff x="2403360" y="3824280"/>
            <a:chExt cx="4897440" cy="2664000"/>
          </a:xfrm>
        </p:grpSpPr>
        <p:sp>
          <p:nvSpPr>
            <p:cNvPr id="116" name=""/>
            <p:cNvSpPr/>
            <p:nvPr/>
          </p:nvSpPr>
          <p:spPr>
            <a:xfrm>
              <a:off x="2403360" y="38242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03360" y="3824280"/>
              <a:ext cx="489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03360" y="511992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95720" y="511992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99000" y="3824280"/>
              <a:ext cx="0" cy="266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995720" y="6488280"/>
              <a:ext cx="23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03720" y="3824280"/>
              <a:ext cx="129528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P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556080" y="4903920"/>
            <a:ext cx="287280" cy="503280"/>
            <a:chOff x="3556080" y="4903920"/>
            <a:chExt cx="287280" cy="503280"/>
          </a:xfrm>
        </p:grpSpPr>
        <p:sp>
          <p:nvSpPr>
            <p:cNvPr id="124" name=""/>
            <p:cNvSpPr/>
            <p:nvPr/>
          </p:nvSpPr>
          <p:spPr>
            <a:xfrm>
              <a:off x="3556080" y="49039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843360" y="49039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132080" y="4903560"/>
            <a:ext cx="1440000" cy="1224360"/>
            <a:chOff x="4132080" y="4903560"/>
            <a:chExt cx="1440000" cy="1224360"/>
          </a:xfrm>
        </p:grpSpPr>
        <p:sp>
          <p:nvSpPr>
            <p:cNvPr id="127" name=""/>
            <p:cNvSpPr/>
            <p:nvPr/>
          </p:nvSpPr>
          <p:spPr>
            <a:xfrm>
              <a:off x="4419720" y="612792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419360" y="591192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564080" y="5480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564080" y="52642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132080" y="5264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132440" y="4903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556080" y="3535200"/>
            <a:ext cx="287280" cy="576000"/>
            <a:chOff x="3556080" y="3535200"/>
            <a:chExt cx="287280" cy="576000"/>
          </a:xfrm>
        </p:grpSpPr>
        <p:sp>
          <p:nvSpPr>
            <p:cNvPr id="134" name=""/>
            <p:cNvSpPr/>
            <p:nvPr/>
          </p:nvSpPr>
          <p:spPr>
            <a:xfrm flipV="1">
              <a:off x="3843360" y="353520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56080" y="353520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419720" y="2743200"/>
            <a:ext cx="2089080" cy="735120"/>
            <a:chOff x="4419720" y="2743200"/>
            <a:chExt cx="2089080" cy="735120"/>
          </a:xfrm>
        </p:grpSpPr>
        <p:sp>
          <p:nvSpPr>
            <p:cNvPr id="137" name=""/>
            <p:cNvSpPr/>
            <p:nvPr/>
          </p:nvSpPr>
          <p:spPr>
            <a:xfrm>
              <a:off x="4996080" y="2743200"/>
              <a:ext cx="287280" cy="230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96080" y="3248280"/>
              <a:ext cx="287280" cy="2300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28879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9720" y="33908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56440" y="288792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ERIFERNI UREĐA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132440" y="3534840"/>
            <a:ext cx="1582560" cy="1729080"/>
            <a:chOff x="4132440" y="3534840"/>
            <a:chExt cx="1582560" cy="1729080"/>
          </a:xfrm>
        </p:grpSpPr>
        <p:sp>
          <p:nvSpPr>
            <p:cNvPr id="143" name=""/>
            <p:cNvSpPr/>
            <p:nvPr/>
          </p:nvSpPr>
          <p:spPr>
            <a:xfrm>
              <a:off x="5715000" y="396684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132440" y="3966840"/>
              <a:ext cx="1582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132440" y="35348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ikroprocesor Z80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gramski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ažeta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Unutarnja struktura Z8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Opis registara i njihova namje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tatusne zastavice i njihova namje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emorijsko adresno područ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Ulazno / izlazno adresno područ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ksi</cp:lastModifiedBy>
  <dcterms:modified xsi:type="dcterms:W3CDTF">2008-04-10T10:40:48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