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AF38-0A6F-4449-9960-AA4CAC2A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F9B-68D7-4DF3-B20C-C846281E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D27-89D0-4F87-AE71-21D80066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0F0-30F8-42AC-8F31-A5C1D6A6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6C6F-370D-4C4E-989A-BA358E86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E4D-7DE2-481A-AF03-73621742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0CA-3895-4F30-98DB-A42BA66A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A4F-4A2E-4BFB-9E32-828C23D1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B7B0-9C89-492C-B282-9BECF942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3A5-5ED0-4987-A62C-E6CA16E6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ECA-960C-4489-BA9F-8FD98E7E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E8DE-8BAD-4ED9-A31E-48DC9D59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481C-9859-406E-88DC-0AC25568AD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kroprocesor Z80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Z80 SIO (Serial Input/Outpu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R3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1219320" y="914400"/>
            <a:ext cx="5790240" cy="459720"/>
            <a:chOff x="1219320" y="914400"/>
            <a:chExt cx="5790240" cy="459720"/>
          </a:xfrm>
        </p:grpSpPr>
        <p:grpSp>
          <p:nvGrpSpPr>
            <p:cNvPr id="439" name=""/>
            <p:cNvGrpSpPr/>
            <p:nvPr/>
          </p:nvGrpSpPr>
          <p:grpSpPr>
            <a:xfrm>
              <a:off x="1219320" y="914400"/>
              <a:ext cx="2894760" cy="459720"/>
              <a:chOff x="1219320" y="914400"/>
              <a:chExt cx="2894760" cy="45972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1219320" y="914400"/>
                <a:ext cx="1447200" cy="459720"/>
                <a:chOff x="1219320" y="914400"/>
                <a:chExt cx="1447200" cy="4597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19429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2193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2666880" y="914400"/>
                <a:ext cx="1447200" cy="459720"/>
                <a:chOff x="2666880" y="914400"/>
                <a:chExt cx="1447200" cy="4597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390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6668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6" name=""/>
            <p:cNvGrpSpPr/>
            <p:nvPr/>
          </p:nvGrpSpPr>
          <p:grpSpPr>
            <a:xfrm>
              <a:off x="4114800" y="914400"/>
              <a:ext cx="2894760" cy="459720"/>
              <a:chOff x="4114800" y="914400"/>
              <a:chExt cx="2894760" cy="45972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4114800" y="914400"/>
                <a:ext cx="1447200" cy="459720"/>
                <a:chOff x="4114800" y="914400"/>
                <a:chExt cx="1447200" cy="4597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838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1148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5562360" y="914400"/>
                <a:ext cx="1447200" cy="459720"/>
                <a:chOff x="5562360" y="914400"/>
                <a:chExt cx="1447200" cy="4597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2859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5623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3" name=""/>
          <p:cNvGrpSpPr/>
          <p:nvPr/>
        </p:nvGrpSpPr>
        <p:grpSpPr>
          <a:xfrm>
            <a:off x="6497640" y="1386000"/>
            <a:ext cx="2646360" cy="947520"/>
            <a:chOff x="6497640" y="1386000"/>
            <a:chExt cx="2646360" cy="947520"/>
          </a:xfrm>
        </p:grpSpPr>
        <p:sp>
          <p:nvSpPr>
            <p:cNvPr id="454" name=""/>
            <p:cNvSpPr/>
            <p:nvPr/>
          </p:nvSpPr>
          <p:spPr>
            <a:xfrm>
              <a:off x="6644880" y="13860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97640" y="1690920"/>
              <a:ext cx="264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Rx Enable             D0=1 omogućenje prima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5486400" y="1371600"/>
            <a:ext cx="3505320" cy="2143440"/>
            <a:chOff x="5486400" y="1371600"/>
            <a:chExt cx="3505320" cy="2143440"/>
          </a:xfrm>
        </p:grpSpPr>
        <p:sp>
          <p:nvSpPr>
            <p:cNvPr id="457" name=""/>
            <p:cNvSpPr/>
            <p:nvPr/>
          </p:nvSpPr>
          <p:spPr>
            <a:xfrm>
              <a:off x="5943600" y="1371600"/>
              <a:ext cx="0" cy="11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86400" y="2598120"/>
              <a:ext cx="35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Sync Character Load Inhibit D1=1 sync znak se ne učitava u ulazni sprem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800600" y="1371600"/>
            <a:ext cx="4114800" cy="3553560"/>
            <a:chOff x="4800600" y="1371600"/>
            <a:chExt cx="4114800" cy="3553560"/>
          </a:xfrm>
        </p:grpSpPr>
        <p:sp>
          <p:nvSpPr>
            <p:cNvPr id="460" name=""/>
            <p:cNvSpPr/>
            <p:nvPr/>
          </p:nvSpPr>
          <p:spPr>
            <a:xfrm>
              <a:off x="5181480" y="1371600"/>
              <a:ext cx="0" cy="23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00600" y="3733920"/>
              <a:ext cx="411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Address Search Mode (SDLC)   D2=1 ne može se dogoditi prekid primanja bez podudaranja adresne poruke i adrese u WR6 regist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191120" y="1371600"/>
            <a:ext cx="4114800" cy="1099800"/>
            <a:chOff x="4191120" y="1371600"/>
            <a:chExt cx="4114800" cy="1099800"/>
          </a:xfrm>
        </p:grpSpPr>
        <p:sp>
          <p:nvSpPr>
            <p:cNvPr id="463" name=""/>
            <p:cNvSpPr/>
            <p:nvPr/>
          </p:nvSpPr>
          <p:spPr>
            <a:xfrm>
              <a:off x="449604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91120" y="182880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Rx CRC Enable                    D3=1 omogućenje CRC provjere prima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429000" y="1371600"/>
            <a:ext cx="4114800" cy="2580480"/>
            <a:chOff x="3429000" y="1371600"/>
            <a:chExt cx="4114800" cy="2580480"/>
          </a:xfrm>
        </p:grpSpPr>
        <p:sp>
          <p:nvSpPr>
            <p:cNvPr id="466" name=""/>
            <p:cNvSpPr/>
            <p:nvPr/>
          </p:nvSpPr>
          <p:spPr>
            <a:xfrm>
              <a:off x="3733920" y="1371600"/>
              <a:ext cx="0" cy="130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29000" y="2760840"/>
              <a:ext cx="4114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Enter Hunt Phase                D4=1 postavlja procesor u HUNT fazu, automatski se postavlja i D4 u registru R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2819520" y="1371600"/>
            <a:ext cx="5867280" cy="4163040"/>
            <a:chOff x="2819520" y="1371600"/>
            <a:chExt cx="5867280" cy="4163040"/>
          </a:xfrm>
        </p:grpSpPr>
        <p:sp>
          <p:nvSpPr>
            <p:cNvPr id="469" name=""/>
            <p:cNvSpPr/>
            <p:nvPr/>
          </p:nvSpPr>
          <p:spPr>
            <a:xfrm>
              <a:off x="3048120" y="1371600"/>
              <a:ext cx="0" cy="289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19520" y="4343400"/>
              <a:ext cx="5867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Auto Enable                                              D5=1 DCD i CTS postaju omogućenje primanja i slanja 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      D5=0 DCD i CTS su ulaz za stanja svojih statusnih bitova u RR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57600" y="52308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3400" y="52308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57600" y="469584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65720" y="46958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5" name=""/>
          <p:cNvGraphicFramePr/>
          <p:nvPr/>
        </p:nvGraphicFramePr>
        <p:xfrm>
          <a:off x="1246320" y="2590920"/>
          <a:ext cx="2944800" cy="1655640"/>
        </p:xfrm>
        <a:graphic>
          <a:graphicData uri="http://schemas.openxmlformats.org/drawingml/2006/table">
            <a:tbl>
              <a:tblPr/>
              <a:tblGrid>
                <a:gridCol w="707760"/>
                <a:gridCol w="658800"/>
                <a:gridCol w="1578240"/>
              </a:tblGrid>
              <a:tr h="28872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bita/z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bita/z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bita/z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bita/z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6" name=""/>
          <p:cNvGrpSpPr/>
          <p:nvPr/>
        </p:nvGrpSpPr>
        <p:grpSpPr>
          <a:xfrm>
            <a:off x="1600200" y="1371600"/>
            <a:ext cx="5943600" cy="1219320"/>
            <a:chOff x="1600200" y="1371600"/>
            <a:chExt cx="5943600" cy="1219320"/>
          </a:xfrm>
        </p:grpSpPr>
        <p:sp>
          <p:nvSpPr>
            <p:cNvPr id="477" name=""/>
            <p:cNvSpPr/>
            <p:nvPr/>
          </p:nvSpPr>
          <p:spPr>
            <a:xfrm>
              <a:off x="1600200" y="137160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86000" y="1752480"/>
              <a:ext cx="525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Kombinacija D7 i D6 određuje broj serijski primljenih bitova koji formiraju 1 zn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86000" y="1371600"/>
              <a:ext cx="0" cy="1219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33520" y="16765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3 sadrži kontrolne bitove primanja podata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R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219320" y="914400"/>
            <a:ext cx="5790240" cy="459720"/>
            <a:chOff x="1219320" y="914400"/>
            <a:chExt cx="5790240" cy="459720"/>
          </a:xfrm>
        </p:grpSpPr>
        <p:grpSp>
          <p:nvGrpSpPr>
            <p:cNvPr id="483" name=""/>
            <p:cNvGrpSpPr/>
            <p:nvPr/>
          </p:nvGrpSpPr>
          <p:grpSpPr>
            <a:xfrm>
              <a:off x="1219320" y="914400"/>
              <a:ext cx="2894760" cy="459720"/>
              <a:chOff x="1219320" y="914400"/>
              <a:chExt cx="2894760" cy="459720"/>
            </a:xfrm>
          </p:grpSpPr>
          <p:grpSp>
            <p:nvGrpSpPr>
              <p:cNvPr id="484" name=""/>
              <p:cNvGrpSpPr/>
              <p:nvPr/>
            </p:nvGrpSpPr>
            <p:grpSpPr>
              <a:xfrm>
                <a:off x="1219320" y="914400"/>
                <a:ext cx="1447200" cy="459720"/>
                <a:chOff x="1219320" y="914400"/>
                <a:chExt cx="1447200" cy="4597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19429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2193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2666880" y="914400"/>
                <a:ext cx="1447200" cy="459720"/>
                <a:chOff x="2666880" y="914400"/>
                <a:chExt cx="1447200" cy="4597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390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6668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"/>
            <p:cNvGrpSpPr/>
            <p:nvPr/>
          </p:nvGrpSpPr>
          <p:grpSpPr>
            <a:xfrm>
              <a:off x="4114800" y="914400"/>
              <a:ext cx="2894760" cy="459720"/>
              <a:chOff x="4114800" y="914400"/>
              <a:chExt cx="2894760" cy="459720"/>
            </a:xfrm>
          </p:grpSpPr>
          <p:grpSp>
            <p:nvGrpSpPr>
              <p:cNvPr id="491" name=""/>
              <p:cNvGrpSpPr/>
              <p:nvPr/>
            </p:nvGrpSpPr>
            <p:grpSpPr>
              <a:xfrm>
                <a:off x="4114800" y="914400"/>
                <a:ext cx="1447200" cy="459720"/>
                <a:chOff x="4114800" y="914400"/>
                <a:chExt cx="1447200" cy="4597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838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1148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562360" y="914400"/>
                <a:ext cx="1447200" cy="459720"/>
                <a:chOff x="5562360" y="914400"/>
                <a:chExt cx="1447200" cy="4597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859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5623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7" name=""/>
          <p:cNvGrpSpPr/>
          <p:nvPr/>
        </p:nvGrpSpPr>
        <p:grpSpPr>
          <a:xfrm>
            <a:off x="6553080" y="1371600"/>
            <a:ext cx="2743200" cy="1221840"/>
            <a:chOff x="6553080" y="1371600"/>
            <a:chExt cx="2743200" cy="1221840"/>
          </a:xfrm>
        </p:grpSpPr>
        <p:sp>
          <p:nvSpPr>
            <p:cNvPr id="498" name=""/>
            <p:cNvSpPr/>
            <p:nvPr/>
          </p:nvSpPr>
          <p:spPr>
            <a:xfrm>
              <a:off x="670572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553080" y="167652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Parity Enable     D0=1 omogućenje provjere parit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486400" y="1371600"/>
            <a:ext cx="3505320" cy="2143440"/>
            <a:chOff x="5486400" y="1371600"/>
            <a:chExt cx="3505320" cy="2143440"/>
          </a:xfrm>
        </p:grpSpPr>
        <p:sp>
          <p:nvSpPr>
            <p:cNvPr id="501" name=""/>
            <p:cNvSpPr/>
            <p:nvPr/>
          </p:nvSpPr>
          <p:spPr>
            <a:xfrm>
              <a:off x="5943600" y="1371600"/>
              <a:ext cx="0" cy="114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486400" y="2598120"/>
              <a:ext cx="35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Parity Even/Odd          D1=1 parni paritet       D1=0 neparni parit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533520" y="1676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4 sadrži kontrolne bitove primanja i slanja podataka te se treba konfigurirati prije WR1, WR3, WR5, WR6 i WR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905120" y="1371600"/>
            <a:ext cx="3276360" cy="2684880"/>
            <a:chOff x="1905120" y="1371600"/>
            <a:chExt cx="3276360" cy="2684880"/>
          </a:xfrm>
        </p:grpSpPr>
        <p:sp>
          <p:nvSpPr>
            <p:cNvPr id="505" name=""/>
            <p:cNvSpPr/>
            <p:nvPr/>
          </p:nvSpPr>
          <p:spPr>
            <a:xfrm>
              <a:off x="1905120" y="2590920"/>
              <a:ext cx="2514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Kombinacija D3 i D2 određuje broj stop bitova koji se dodaju na znak pri asinkoronom ra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4495680" y="1371600"/>
              <a:ext cx="685800" cy="2437920"/>
              <a:chOff x="4495680" y="1371600"/>
              <a:chExt cx="685800" cy="2437920"/>
            </a:xfrm>
          </p:grpSpPr>
          <p:sp>
            <p:nvSpPr>
              <p:cNvPr id="507" name=""/>
              <p:cNvSpPr/>
              <p:nvPr/>
            </p:nvSpPr>
            <p:spPr>
              <a:xfrm>
                <a:off x="4495680" y="1371600"/>
                <a:ext cx="0" cy="243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181480" y="1371600"/>
                <a:ext cx="0" cy="243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09" name=""/>
          <p:cNvGraphicFramePr/>
          <p:nvPr/>
        </p:nvGraphicFramePr>
        <p:xfrm>
          <a:off x="4160880" y="3886200"/>
          <a:ext cx="4754520" cy="1905120"/>
        </p:xfrm>
        <a:graphic>
          <a:graphicData uri="http://schemas.openxmlformats.org/drawingml/2006/table">
            <a:tbl>
              <a:tblPr/>
              <a:tblGrid>
                <a:gridCol w="714240"/>
                <a:gridCol w="665280"/>
                <a:gridCol w="3375000"/>
              </a:tblGrid>
              <a:tr h="33192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dabir sinkronog nač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stop bit po zna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-1/2 stop bita po zna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stop bita po zna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0" name=""/>
          <p:cNvGrpSpPr/>
          <p:nvPr/>
        </p:nvGrpSpPr>
        <p:grpSpPr>
          <a:xfrm>
            <a:off x="2971800" y="1371600"/>
            <a:ext cx="3809880" cy="1447560"/>
            <a:chOff x="2971800" y="1371600"/>
            <a:chExt cx="3809880" cy="1447560"/>
          </a:xfrm>
        </p:grpSpPr>
        <p:sp>
          <p:nvSpPr>
            <p:cNvPr id="511" name=""/>
            <p:cNvSpPr/>
            <p:nvPr/>
          </p:nvSpPr>
          <p:spPr>
            <a:xfrm>
              <a:off x="3809880" y="2057400"/>
              <a:ext cx="297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pcije načina sinkronizacije znako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2971800" y="1371600"/>
              <a:ext cx="685800" cy="1447560"/>
              <a:chOff x="2971800" y="1371600"/>
              <a:chExt cx="685800" cy="1447560"/>
            </a:xfrm>
          </p:grpSpPr>
          <p:sp>
            <p:nvSpPr>
              <p:cNvPr id="513" name=""/>
              <p:cNvSpPr/>
              <p:nvPr/>
            </p:nvSpPr>
            <p:spPr>
              <a:xfrm>
                <a:off x="2971800" y="1371600"/>
                <a:ext cx="0" cy="144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657600" y="1371600"/>
                <a:ext cx="0" cy="144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15" name=""/>
          <p:cNvGraphicFramePr/>
          <p:nvPr/>
        </p:nvGraphicFramePr>
        <p:xfrm>
          <a:off x="2617920" y="2895480"/>
          <a:ext cx="5611680" cy="1905120"/>
        </p:xfrm>
        <a:graphic>
          <a:graphicData uri="http://schemas.openxmlformats.org/drawingml/2006/table">
            <a:tbl>
              <a:tblPr/>
              <a:tblGrid>
                <a:gridCol w="714240"/>
                <a:gridCol w="665280"/>
                <a:gridCol w="4232160"/>
              </a:tblGrid>
              <a:tr h="33192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-bitni sinkronizacijski z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-bitni sinkronizacijski z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DLC način sinkron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njska sinkron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6" name=""/>
          <p:cNvGrpSpPr/>
          <p:nvPr/>
        </p:nvGrpSpPr>
        <p:grpSpPr>
          <a:xfrm>
            <a:off x="1600200" y="1371600"/>
            <a:ext cx="3809880" cy="1980720"/>
            <a:chOff x="1600200" y="1371600"/>
            <a:chExt cx="3809880" cy="1980720"/>
          </a:xfrm>
        </p:grpSpPr>
        <p:sp>
          <p:nvSpPr>
            <p:cNvPr id="517" name=""/>
            <p:cNvSpPr/>
            <p:nvPr/>
          </p:nvSpPr>
          <p:spPr>
            <a:xfrm>
              <a:off x="2438280" y="20574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dređivanje množitelja signala takta za dobivanje brzine prijenosa podata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1600200" y="1371600"/>
              <a:ext cx="685800" cy="1980720"/>
              <a:chOff x="1600200" y="1371600"/>
              <a:chExt cx="685800" cy="1980720"/>
            </a:xfrm>
          </p:grpSpPr>
          <p:sp>
            <p:nvSpPr>
              <p:cNvPr id="519" name=""/>
              <p:cNvSpPr/>
              <p:nvPr/>
            </p:nvSpPr>
            <p:spPr>
              <a:xfrm>
                <a:off x="1600200" y="1371600"/>
                <a:ext cx="0" cy="19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286000" y="1371600"/>
                <a:ext cx="0" cy="198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21" name=""/>
          <p:cNvGraphicFramePr/>
          <p:nvPr/>
        </p:nvGraphicFramePr>
        <p:xfrm>
          <a:off x="1219320" y="3581280"/>
          <a:ext cx="5611680" cy="1905120"/>
        </p:xfrm>
        <a:graphic>
          <a:graphicData uri="http://schemas.openxmlformats.org/drawingml/2006/table">
            <a:tbl>
              <a:tblPr/>
              <a:tblGrid>
                <a:gridCol w="714240"/>
                <a:gridCol w="665280"/>
                <a:gridCol w="4232160"/>
              </a:tblGrid>
              <a:tr h="33192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 tak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6 ta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32 ta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64 ta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R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219320" y="914400"/>
            <a:ext cx="5790240" cy="459720"/>
            <a:chOff x="1219320" y="914400"/>
            <a:chExt cx="5790240" cy="459720"/>
          </a:xfrm>
        </p:grpSpPr>
        <p:grpSp>
          <p:nvGrpSpPr>
            <p:cNvPr id="524" name=""/>
            <p:cNvGrpSpPr/>
            <p:nvPr/>
          </p:nvGrpSpPr>
          <p:grpSpPr>
            <a:xfrm>
              <a:off x="1219320" y="914400"/>
              <a:ext cx="2894760" cy="459720"/>
              <a:chOff x="1219320" y="914400"/>
              <a:chExt cx="2894760" cy="4597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1219320" y="914400"/>
                <a:ext cx="1447200" cy="459720"/>
                <a:chOff x="1219320" y="914400"/>
                <a:chExt cx="1447200" cy="4597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9429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2193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2666880" y="914400"/>
                <a:ext cx="1447200" cy="459720"/>
                <a:chOff x="2666880" y="914400"/>
                <a:chExt cx="1447200" cy="459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390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668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4114800" y="914400"/>
              <a:ext cx="2894760" cy="459720"/>
              <a:chOff x="4114800" y="914400"/>
              <a:chExt cx="2894760" cy="45972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4114800" y="914400"/>
                <a:ext cx="1447200" cy="459720"/>
                <a:chOff x="4114800" y="914400"/>
                <a:chExt cx="1447200" cy="459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838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1148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5562360" y="914400"/>
                <a:ext cx="1447200" cy="459720"/>
                <a:chOff x="5562360" y="914400"/>
                <a:chExt cx="1447200" cy="4597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2859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5623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8" name=""/>
          <p:cNvSpPr/>
          <p:nvPr/>
        </p:nvSpPr>
        <p:spPr>
          <a:xfrm>
            <a:off x="533520" y="16765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5 sadrži kontrolne bitove slanja podata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6553080" y="1371600"/>
            <a:ext cx="2438640" cy="947520"/>
            <a:chOff x="6553080" y="1371600"/>
            <a:chExt cx="2438640" cy="947520"/>
          </a:xfrm>
        </p:grpSpPr>
        <p:sp>
          <p:nvSpPr>
            <p:cNvPr id="540" name=""/>
            <p:cNvSpPr/>
            <p:nvPr/>
          </p:nvSpPr>
          <p:spPr>
            <a:xfrm>
              <a:off x="668844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53080" y="1676520"/>
              <a:ext cx="243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Tx CRC Enable D0=1 omogućenje CRC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486400" y="1371600"/>
            <a:ext cx="3505320" cy="2100600"/>
            <a:chOff x="5486400" y="1371600"/>
            <a:chExt cx="3505320" cy="2100600"/>
          </a:xfrm>
        </p:grpSpPr>
        <p:grpSp>
          <p:nvGrpSpPr>
            <p:cNvPr id="543" name=""/>
            <p:cNvGrpSpPr/>
            <p:nvPr/>
          </p:nvGrpSpPr>
          <p:grpSpPr>
            <a:xfrm>
              <a:off x="5486400" y="1371600"/>
              <a:ext cx="3505320" cy="2100600"/>
              <a:chOff x="5486400" y="1371600"/>
              <a:chExt cx="3505320" cy="2100600"/>
            </a:xfrm>
          </p:grpSpPr>
          <p:sp>
            <p:nvSpPr>
              <p:cNvPr id="544" name=""/>
              <p:cNvSpPr/>
              <p:nvPr/>
            </p:nvSpPr>
            <p:spPr>
              <a:xfrm>
                <a:off x="5943600" y="1371600"/>
                <a:ext cx="0" cy="1104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86400" y="2555280"/>
                <a:ext cx="3505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000000"/>
                    </a:solidFill>
                    <a:latin typeface="Verdana"/>
                  </a:rPr>
                  <a:t>RTS (Request To Send)   D1=1 RTS pin ide u 0       D1=0 RTS pin ide 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6346800" y="3201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62640" y="2892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800600" y="1371600"/>
            <a:ext cx="3733920" cy="3903840"/>
            <a:chOff x="4800600" y="1371600"/>
            <a:chExt cx="3733920" cy="3903840"/>
          </a:xfrm>
        </p:grpSpPr>
        <p:sp>
          <p:nvSpPr>
            <p:cNvPr id="549" name=""/>
            <p:cNvSpPr/>
            <p:nvPr/>
          </p:nvSpPr>
          <p:spPr>
            <a:xfrm>
              <a:off x="5181480" y="137160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600" y="3809880"/>
              <a:ext cx="3733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DLC/CRC16                  D2=1 odabir CRC16 polinoma (X16 +X15 + X2 + 1)     D2=0 odabir SDLC polinoma          (X16 +X12 +X5 + 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962520" y="1371600"/>
            <a:ext cx="3733560" cy="4605120"/>
            <a:chOff x="3962520" y="1371600"/>
            <a:chExt cx="3733560" cy="4605120"/>
          </a:xfrm>
        </p:grpSpPr>
        <p:sp>
          <p:nvSpPr>
            <p:cNvPr id="552" name=""/>
            <p:cNvSpPr/>
            <p:nvPr/>
          </p:nvSpPr>
          <p:spPr>
            <a:xfrm>
              <a:off x="4419720" y="1371600"/>
              <a:ext cx="0" cy="396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62520" y="5334120"/>
              <a:ext cx="373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Tx Enable                      D3=1 OMOGUĆENJE SLA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581280" y="1447920"/>
            <a:ext cx="2743200" cy="947520"/>
            <a:chOff x="3581280" y="1447920"/>
            <a:chExt cx="2743200" cy="947520"/>
          </a:xfrm>
        </p:grpSpPr>
        <p:sp>
          <p:nvSpPr>
            <p:cNvPr id="555" name=""/>
            <p:cNvSpPr/>
            <p:nvPr/>
          </p:nvSpPr>
          <p:spPr>
            <a:xfrm>
              <a:off x="3733920" y="14479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581280" y="1752840"/>
              <a:ext cx="274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Send Break        D4=1 slanje prek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1927080" y="3238560"/>
          <a:ext cx="4016520" cy="1452600"/>
        </p:xfrm>
        <a:graphic>
          <a:graphicData uri="http://schemas.openxmlformats.org/drawingml/2006/table">
            <a:tbl>
              <a:tblPr/>
              <a:tblGrid>
                <a:gridCol w="711360"/>
                <a:gridCol w="662040"/>
                <a:gridCol w="2643120"/>
              </a:tblGrid>
              <a:tr h="28872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ili manje bitova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16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bit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bit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bit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58" name=""/>
          <p:cNvGrpSpPr/>
          <p:nvPr/>
        </p:nvGrpSpPr>
        <p:grpSpPr>
          <a:xfrm>
            <a:off x="2286000" y="1371600"/>
            <a:ext cx="3809880" cy="1752120"/>
            <a:chOff x="2286000" y="1371600"/>
            <a:chExt cx="3809880" cy="1752120"/>
          </a:xfrm>
        </p:grpSpPr>
        <p:sp>
          <p:nvSpPr>
            <p:cNvPr id="559" name=""/>
            <p:cNvSpPr/>
            <p:nvPr/>
          </p:nvSpPr>
          <p:spPr>
            <a:xfrm>
              <a:off x="3124080" y="27432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roj bitova 1 zna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2286000" y="1371600"/>
              <a:ext cx="685800" cy="1752120"/>
              <a:chOff x="2286000" y="1371600"/>
              <a:chExt cx="685800" cy="1752120"/>
            </a:xfrm>
          </p:grpSpPr>
          <p:sp>
            <p:nvSpPr>
              <p:cNvPr id="561" name=""/>
              <p:cNvSpPr/>
              <p:nvPr/>
            </p:nvSpPr>
            <p:spPr>
              <a:xfrm>
                <a:off x="2286000" y="1371600"/>
                <a:ext cx="0" cy="175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971800" y="1371600"/>
                <a:ext cx="0" cy="1752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1143000" y="1371600"/>
            <a:ext cx="3733560" cy="4879440"/>
            <a:chOff x="1143000" y="1371600"/>
            <a:chExt cx="3733560" cy="4879440"/>
          </a:xfrm>
        </p:grpSpPr>
        <p:sp>
          <p:nvSpPr>
            <p:cNvPr id="564" name=""/>
            <p:cNvSpPr/>
            <p:nvPr/>
          </p:nvSpPr>
          <p:spPr>
            <a:xfrm>
              <a:off x="1600200" y="1371600"/>
              <a:ext cx="0" cy="396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43000" y="5334120"/>
              <a:ext cx="3733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DTR (Data Terminal Ready) kontrolni bit za DTR pin   D7=1 DTR je aktiv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R6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304920" y="914400"/>
            <a:ext cx="5790240" cy="459720"/>
            <a:chOff x="304920" y="914400"/>
            <a:chExt cx="5790240" cy="459720"/>
          </a:xfrm>
        </p:grpSpPr>
        <p:grpSp>
          <p:nvGrpSpPr>
            <p:cNvPr id="568" name=""/>
            <p:cNvGrpSpPr/>
            <p:nvPr/>
          </p:nvGrpSpPr>
          <p:grpSpPr>
            <a:xfrm>
              <a:off x="304920" y="914400"/>
              <a:ext cx="2894760" cy="459720"/>
              <a:chOff x="304920" y="914400"/>
              <a:chExt cx="2894760" cy="4597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04920" y="914400"/>
                <a:ext cx="1447200" cy="459720"/>
                <a:chOff x="304920" y="914400"/>
                <a:chExt cx="1447200" cy="459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10285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049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1752480" y="914400"/>
                <a:ext cx="1447200" cy="459720"/>
                <a:chOff x="1752480" y="914400"/>
                <a:chExt cx="1447200" cy="4597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24760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752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"/>
            <p:cNvGrpSpPr/>
            <p:nvPr/>
          </p:nvGrpSpPr>
          <p:grpSpPr>
            <a:xfrm>
              <a:off x="3200400" y="914400"/>
              <a:ext cx="2894760" cy="459720"/>
              <a:chOff x="3200400" y="914400"/>
              <a:chExt cx="2894760" cy="45972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200400" y="914400"/>
                <a:ext cx="1447200" cy="459720"/>
                <a:chOff x="3200400" y="914400"/>
                <a:chExt cx="1447200" cy="4597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240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200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4647960" y="914400"/>
                <a:ext cx="1447200" cy="459720"/>
                <a:chOff x="4647960" y="914400"/>
                <a:chExt cx="1447200" cy="459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53715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6479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2" name=""/>
          <p:cNvSpPr/>
          <p:nvPr/>
        </p:nvSpPr>
        <p:spPr>
          <a:xfrm>
            <a:off x="838080" y="50292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WR6 sadrž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sinkronizacijski znak slanja u monosinkronom načinu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sinkronizacijski znak slanja u načinu rada vanjske sinkro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prvi byte sinkronizacijskog znaka u bisnikronom načinu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sekundarno adresno polje u SDLC načinu rada – polje koje se uspoređuje sa SDLC okvi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629400" y="457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KRONIZACIJSKI ZNAK SL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85800" y="1371600"/>
            <a:ext cx="6934320" cy="3089160"/>
            <a:chOff x="685800" y="1371600"/>
            <a:chExt cx="6934320" cy="3089160"/>
          </a:xfrm>
        </p:grpSpPr>
        <p:sp>
          <p:nvSpPr>
            <p:cNvPr id="585" name=""/>
            <p:cNvSpPr/>
            <p:nvPr/>
          </p:nvSpPr>
          <p:spPr>
            <a:xfrm>
              <a:off x="579132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095880" y="148284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791320" y="17524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29200" y="13716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267080" y="1371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81280" y="13716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19520" y="137160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33720" y="13716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71600" y="1371600"/>
              <a:ext cx="0" cy="25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5800" y="1371600"/>
              <a:ext cx="0" cy="289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29200" y="20574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23623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81280" y="274320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19520" y="312408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33720" y="3505320"/>
              <a:ext cx="396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71600" y="3886200"/>
              <a:ext cx="472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" y="4267080"/>
              <a:ext cx="541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095880" y="1849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95880" y="219564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95880" y="25560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95880" y="290844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95880" y="33037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095880" y="36846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095880" y="40924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7467480" y="1523880"/>
            <a:ext cx="858960" cy="3021120"/>
            <a:chOff x="7467480" y="1523880"/>
            <a:chExt cx="858960" cy="3021120"/>
          </a:xfrm>
        </p:grpSpPr>
        <p:sp>
          <p:nvSpPr>
            <p:cNvPr id="610" name=""/>
            <p:cNvSpPr/>
            <p:nvPr/>
          </p:nvSpPr>
          <p:spPr>
            <a:xfrm>
              <a:off x="7467480" y="1523880"/>
              <a:ext cx="381240" cy="297180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945560" y="3013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325000" y="3016080"/>
              <a:ext cx="0" cy="152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R7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04920" y="914400"/>
            <a:ext cx="5790240" cy="459720"/>
            <a:chOff x="304920" y="914400"/>
            <a:chExt cx="5790240" cy="459720"/>
          </a:xfrm>
        </p:grpSpPr>
        <p:grpSp>
          <p:nvGrpSpPr>
            <p:cNvPr id="615" name=""/>
            <p:cNvGrpSpPr/>
            <p:nvPr/>
          </p:nvGrpSpPr>
          <p:grpSpPr>
            <a:xfrm>
              <a:off x="304920" y="914400"/>
              <a:ext cx="2894760" cy="459720"/>
              <a:chOff x="304920" y="914400"/>
              <a:chExt cx="2894760" cy="45972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04920" y="914400"/>
                <a:ext cx="1447200" cy="459720"/>
                <a:chOff x="304920" y="914400"/>
                <a:chExt cx="1447200" cy="4597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10285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049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1752480" y="914400"/>
                <a:ext cx="1447200" cy="459720"/>
                <a:chOff x="1752480" y="914400"/>
                <a:chExt cx="1447200" cy="4597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24760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752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"/>
            <p:cNvGrpSpPr/>
            <p:nvPr/>
          </p:nvGrpSpPr>
          <p:grpSpPr>
            <a:xfrm>
              <a:off x="3200400" y="914400"/>
              <a:ext cx="2894760" cy="459720"/>
              <a:chOff x="3200400" y="914400"/>
              <a:chExt cx="2894760" cy="459720"/>
            </a:xfrm>
          </p:grpSpPr>
          <p:grpSp>
            <p:nvGrpSpPr>
              <p:cNvPr id="623" name=""/>
              <p:cNvGrpSpPr/>
              <p:nvPr/>
            </p:nvGrpSpPr>
            <p:grpSpPr>
              <a:xfrm>
                <a:off x="3200400" y="914400"/>
                <a:ext cx="1447200" cy="459720"/>
                <a:chOff x="3200400" y="914400"/>
                <a:chExt cx="1447200" cy="45972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9240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3200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647960" y="914400"/>
                <a:ext cx="1447200" cy="459720"/>
                <a:chOff x="4647960" y="914400"/>
                <a:chExt cx="1447200" cy="45972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3715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6479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9" name=""/>
          <p:cNvSpPr/>
          <p:nvPr/>
        </p:nvSpPr>
        <p:spPr>
          <a:xfrm>
            <a:off x="838080" y="5029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WR6 sadrž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sinkronizacijski znak primanja u monosinkronom načinu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drugi byte sinkronizacijskog znaka u bisnikronom načinu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-znak zastavica (0111 1110) u SDLC načinu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629400" y="45720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KRONIZACIJSKI ZNAK PRIM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85800" y="1371600"/>
            <a:ext cx="7162920" cy="3089160"/>
            <a:chOff x="685800" y="1371600"/>
            <a:chExt cx="7162920" cy="3089160"/>
          </a:xfrm>
        </p:grpSpPr>
        <p:sp>
          <p:nvSpPr>
            <p:cNvPr id="632" name=""/>
            <p:cNvSpPr/>
            <p:nvPr/>
          </p:nvSpPr>
          <p:spPr>
            <a:xfrm>
              <a:off x="579132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95880" y="148284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791320" y="17524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29200" y="13716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67080" y="1371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81280" y="13716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19520" y="137160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3720" y="13716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71600" y="1371600"/>
              <a:ext cx="0" cy="25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5800" y="1371600"/>
              <a:ext cx="0" cy="289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29200" y="20574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267080" y="23623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81280" y="274320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819520" y="312408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33720" y="3505320"/>
              <a:ext cx="396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371600" y="3886200"/>
              <a:ext cx="472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5800" y="4267080"/>
              <a:ext cx="541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095880" y="1849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95880" y="219564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95880" y="25560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095880" y="290844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095880" y="330372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095880" y="36846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095880" y="40924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YNC Bit 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7543800" y="1523880"/>
            <a:ext cx="858960" cy="3021120"/>
            <a:chOff x="7543800" y="1523880"/>
            <a:chExt cx="858960" cy="3021120"/>
          </a:xfrm>
        </p:grpSpPr>
        <p:sp>
          <p:nvSpPr>
            <p:cNvPr id="657" name=""/>
            <p:cNvSpPr/>
            <p:nvPr/>
          </p:nvSpPr>
          <p:spPr>
            <a:xfrm>
              <a:off x="7543800" y="1523880"/>
              <a:ext cx="381240" cy="297180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77400 h 2971800"/>
                <a:gd name="textAreaBottom" fmla="*/ 289440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8021880" y="301320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01320" y="3016080"/>
              <a:ext cx="0" cy="152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R0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219320" y="914400"/>
            <a:ext cx="5790240" cy="459720"/>
            <a:chOff x="1219320" y="914400"/>
            <a:chExt cx="5790240" cy="459720"/>
          </a:xfrm>
        </p:grpSpPr>
        <p:grpSp>
          <p:nvGrpSpPr>
            <p:cNvPr id="662" name=""/>
            <p:cNvGrpSpPr/>
            <p:nvPr/>
          </p:nvGrpSpPr>
          <p:grpSpPr>
            <a:xfrm>
              <a:off x="1219320" y="914400"/>
              <a:ext cx="2894760" cy="459720"/>
              <a:chOff x="1219320" y="914400"/>
              <a:chExt cx="2894760" cy="459720"/>
            </a:xfrm>
          </p:grpSpPr>
          <p:grpSp>
            <p:nvGrpSpPr>
              <p:cNvPr id="663" name=""/>
              <p:cNvGrpSpPr/>
              <p:nvPr/>
            </p:nvGrpSpPr>
            <p:grpSpPr>
              <a:xfrm>
                <a:off x="1219320" y="914400"/>
                <a:ext cx="1447200" cy="459720"/>
                <a:chOff x="1219320" y="914400"/>
                <a:chExt cx="1447200" cy="45972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19429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2193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2666880" y="914400"/>
                <a:ext cx="1447200" cy="459720"/>
                <a:chOff x="2666880" y="914400"/>
                <a:chExt cx="1447200" cy="4597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390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6668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9" name=""/>
            <p:cNvGrpSpPr/>
            <p:nvPr/>
          </p:nvGrpSpPr>
          <p:grpSpPr>
            <a:xfrm>
              <a:off x="4114800" y="914400"/>
              <a:ext cx="2894760" cy="459720"/>
              <a:chOff x="4114800" y="914400"/>
              <a:chExt cx="2894760" cy="459720"/>
            </a:xfrm>
          </p:grpSpPr>
          <p:grpSp>
            <p:nvGrpSpPr>
              <p:cNvPr id="670" name=""/>
              <p:cNvGrpSpPr/>
              <p:nvPr/>
            </p:nvGrpSpPr>
            <p:grpSpPr>
              <a:xfrm>
                <a:off x="4114800" y="914400"/>
                <a:ext cx="1447200" cy="459720"/>
                <a:chOff x="4114800" y="914400"/>
                <a:chExt cx="1447200" cy="4597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4838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1148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562360" y="914400"/>
                <a:ext cx="1447200" cy="459720"/>
                <a:chOff x="5562360" y="914400"/>
                <a:chExt cx="1447200" cy="45972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62859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55623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6" name=""/>
          <p:cNvGrpSpPr/>
          <p:nvPr/>
        </p:nvGrpSpPr>
        <p:grpSpPr>
          <a:xfrm>
            <a:off x="6553080" y="1371600"/>
            <a:ext cx="2362320" cy="1221840"/>
            <a:chOff x="6553080" y="1371600"/>
            <a:chExt cx="2362320" cy="1221840"/>
          </a:xfrm>
        </p:grpSpPr>
        <p:sp>
          <p:nvSpPr>
            <p:cNvPr id="677" name=""/>
            <p:cNvSpPr/>
            <p:nvPr/>
          </p:nvSpPr>
          <p:spPr>
            <a:xfrm>
              <a:off x="668448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553080" y="1676520"/>
              <a:ext cx="2362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Rx char. available D0=1 Rx znak je dostu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5410080" y="1371600"/>
            <a:ext cx="3505320" cy="2185920"/>
            <a:chOff x="5410080" y="1371600"/>
            <a:chExt cx="3505320" cy="2185920"/>
          </a:xfrm>
        </p:grpSpPr>
        <p:sp>
          <p:nvSpPr>
            <p:cNvPr id="680" name=""/>
            <p:cNvSpPr/>
            <p:nvPr/>
          </p:nvSpPr>
          <p:spPr>
            <a:xfrm>
              <a:off x="5867280" y="1371600"/>
              <a:ext cx="0" cy="118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410080" y="2640600"/>
              <a:ext cx="350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Int pending                 D1=1 postojanje nekog od prekidnih sta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800600" y="1371600"/>
            <a:ext cx="3733920" cy="3080880"/>
            <a:chOff x="4800600" y="1371600"/>
            <a:chExt cx="3733920" cy="3080880"/>
          </a:xfrm>
        </p:grpSpPr>
        <p:sp>
          <p:nvSpPr>
            <p:cNvPr id="683" name=""/>
            <p:cNvSpPr/>
            <p:nvPr/>
          </p:nvSpPr>
          <p:spPr>
            <a:xfrm>
              <a:off x="5181480" y="1371600"/>
              <a:ext cx="0" cy="243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800600" y="3809880"/>
              <a:ext cx="37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Tx Buffer Empty             D2=1 Tx spremnik je ispržnj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4038480" y="1371600"/>
            <a:ext cx="3733920" cy="2019240"/>
            <a:chOff x="4038480" y="1371600"/>
            <a:chExt cx="3733920" cy="2019240"/>
          </a:xfrm>
        </p:grpSpPr>
        <p:grpSp>
          <p:nvGrpSpPr>
            <p:cNvPr id="686" name=""/>
            <p:cNvGrpSpPr/>
            <p:nvPr/>
          </p:nvGrpSpPr>
          <p:grpSpPr>
            <a:xfrm>
              <a:off x="4038480" y="1371600"/>
              <a:ext cx="3733920" cy="2019240"/>
              <a:chOff x="4038480" y="1371600"/>
              <a:chExt cx="3733920" cy="2019240"/>
            </a:xfrm>
          </p:grpSpPr>
          <p:sp>
            <p:nvSpPr>
              <p:cNvPr id="687" name=""/>
              <p:cNvSpPr/>
              <p:nvPr/>
            </p:nvSpPr>
            <p:spPr>
              <a:xfrm>
                <a:off x="4419360" y="1371600"/>
                <a:ext cx="0" cy="1374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038480" y="2748240"/>
                <a:ext cx="3733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800" spc="-1" strike="noStrike">
                    <a:solidFill>
                      <a:srgbClr val="000000"/>
                    </a:solidFill>
                    <a:latin typeface="Verdana"/>
                  </a:rPr>
                  <a:t>DCD (Data Carrier Detect) Stanje DCD p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>
              <a:off x="6095880" y="2780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495680" y="160020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LIJEDEĆI BITOVI SE KORISTE PRI EKSTERNOM PREKIDNOM NAČINU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590920" y="1371600"/>
            <a:ext cx="4572000" cy="3571560"/>
            <a:chOff x="2590920" y="1371600"/>
            <a:chExt cx="4572000" cy="3571560"/>
          </a:xfrm>
        </p:grpSpPr>
        <p:sp>
          <p:nvSpPr>
            <p:cNvPr id="692" name=""/>
            <p:cNvSpPr/>
            <p:nvPr/>
          </p:nvSpPr>
          <p:spPr>
            <a:xfrm>
              <a:off x="2971800" y="1371600"/>
              <a:ext cx="0" cy="292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90920" y="430056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CTS BIT – prikazuje invertirano stanje CTS (Clear To Send) p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1905120" y="1371600"/>
            <a:ext cx="4572000" cy="4604760"/>
            <a:chOff x="1905120" y="1371600"/>
            <a:chExt cx="4572000" cy="4604760"/>
          </a:xfrm>
        </p:grpSpPr>
        <p:sp>
          <p:nvSpPr>
            <p:cNvPr id="695" name=""/>
            <p:cNvSpPr/>
            <p:nvPr/>
          </p:nvSpPr>
          <p:spPr>
            <a:xfrm>
              <a:off x="2286000" y="1371600"/>
              <a:ext cx="0" cy="368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05120" y="505944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D6=1 Naznaka da je sinkronizacijski znak poslan (Transmit Underrun) ili da je poslan CRC16 (End of Messag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1219320" y="1371600"/>
            <a:ext cx="4572000" cy="3569760"/>
            <a:chOff x="1219320" y="1371600"/>
            <a:chExt cx="4572000" cy="3569760"/>
          </a:xfrm>
        </p:grpSpPr>
        <p:sp>
          <p:nvSpPr>
            <p:cNvPr id="698" name=""/>
            <p:cNvSpPr/>
            <p:nvPr/>
          </p:nvSpPr>
          <p:spPr>
            <a:xfrm>
              <a:off x="1600200" y="1371600"/>
              <a:ext cx="0" cy="182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19320" y="3201480"/>
              <a:ext cx="4572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Break/Abort                             D7=1 detektirana je break sekvenca (Null Char + Framing Error)        D7=0 detektiran je kraj prekidne sekvence                                   D7=1 (SDLC) detektirana je abort sekvenca (7 ili više jedinic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3352680" y="1371600"/>
            <a:ext cx="1752840" cy="2806560"/>
            <a:chOff x="3352680" y="1371600"/>
            <a:chExt cx="1752840" cy="2806560"/>
          </a:xfrm>
        </p:grpSpPr>
        <p:sp>
          <p:nvSpPr>
            <p:cNvPr id="701" name=""/>
            <p:cNvSpPr/>
            <p:nvPr/>
          </p:nvSpPr>
          <p:spPr>
            <a:xfrm>
              <a:off x="3733920" y="1371600"/>
              <a:ext cx="0" cy="2334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352680" y="3809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Sync/Hu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R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80880" y="914400"/>
            <a:ext cx="5790600" cy="459720"/>
            <a:chOff x="380880" y="914400"/>
            <a:chExt cx="5790600" cy="459720"/>
          </a:xfrm>
        </p:grpSpPr>
        <p:grpSp>
          <p:nvGrpSpPr>
            <p:cNvPr id="705" name=""/>
            <p:cNvGrpSpPr/>
            <p:nvPr/>
          </p:nvGrpSpPr>
          <p:grpSpPr>
            <a:xfrm>
              <a:off x="380880" y="914400"/>
              <a:ext cx="2895120" cy="459720"/>
              <a:chOff x="380880" y="914400"/>
              <a:chExt cx="2895120" cy="459720"/>
            </a:xfrm>
          </p:grpSpPr>
          <p:grpSp>
            <p:nvGrpSpPr>
              <p:cNvPr id="706" name=""/>
              <p:cNvGrpSpPr/>
              <p:nvPr/>
            </p:nvGrpSpPr>
            <p:grpSpPr>
              <a:xfrm>
                <a:off x="380880" y="914400"/>
                <a:ext cx="1447200" cy="459720"/>
                <a:chOff x="380880" y="914400"/>
                <a:chExt cx="1447200" cy="4597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1104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808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1828800" y="914400"/>
                <a:ext cx="1447200" cy="459720"/>
                <a:chOff x="1828800" y="914400"/>
                <a:chExt cx="1447200" cy="4597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2552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8288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2" name=""/>
            <p:cNvGrpSpPr/>
            <p:nvPr/>
          </p:nvGrpSpPr>
          <p:grpSpPr>
            <a:xfrm>
              <a:off x="3276720" y="914400"/>
              <a:ext cx="2894760" cy="459720"/>
              <a:chOff x="3276720" y="914400"/>
              <a:chExt cx="2894760" cy="45972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3276720" y="914400"/>
                <a:ext cx="1447200" cy="459720"/>
                <a:chOff x="3276720" y="914400"/>
                <a:chExt cx="1447200" cy="45972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40003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2767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724280" y="914400"/>
                <a:ext cx="1447200" cy="459720"/>
                <a:chOff x="4724280" y="914400"/>
                <a:chExt cx="1447200" cy="45972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54478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7242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719" name=""/>
          <p:cNvGraphicFramePr/>
          <p:nvPr/>
        </p:nvGraphicFramePr>
        <p:xfrm>
          <a:off x="3236760" y="3048120"/>
          <a:ext cx="5297760" cy="2874960"/>
        </p:xfrm>
        <a:graphic>
          <a:graphicData uri="http://schemas.openxmlformats.org/drawingml/2006/table">
            <a:tbl>
              <a:tblPr/>
              <a:tblGrid>
                <a:gridCol w="733680"/>
                <a:gridCol w="761760"/>
                <a:gridCol w="714600"/>
                <a:gridCol w="1411200"/>
                <a:gridCol w="1676520"/>
              </a:tblGrid>
              <a:tr h="563400">
                <a:tc gridSpan="3"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thodnog byte-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yte-a prije prethodn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20" name=""/>
          <p:cNvGrpSpPr/>
          <p:nvPr/>
        </p:nvGrpSpPr>
        <p:grpSpPr>
          <a:xfrm>
            <a:off x="3581280" y="1371600"/>
            <a:ext cx="5334120" cy="2132640"/>
            <a:chOff x="3581280" y="1371600"/>
            <a:chExt cx="5334120" cy="2132640"/>
          </a:xfrm>
        </p:grpSpPr>
        <p:grpSp>
          <p:nvGrpSpPr>
            <p:cNvPr id="721" name=""/>
            <p:cNvGrpSpPr/>
            <p:nvPr/>
          </p:nvGrpSpPr>
          <p:grpSpPr>
            <a:xfrm>
              <a:off x="3581280" y="1371600"/>
              <a:ext cx="1523880" cy="2132640"/>
              <a:chOff x="3581280" y="1371600"/>
              <a:chExt cx="1523880" cy="2132640"/>
            </a:xfrm>
          </p:grpSpPr>
          <p:sp>
            <p:nvSpPr>
              <p:cNvPr id="722" name=""/>
              <p:cNvSpPr/>
              <p:nvPr/>
            </p:nvSpPr>
            <p:spPr>
              <a:xfrm>
                <a:off x="4343400" y="1371600"/>
                <a:ext cx="0" cy="213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105160" y="1371600"/>
                <a:ext cx="0" cy="213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581280" y="1371600"/>
                <a:ext cx="0" cy="213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5181480" y="1752480"/>
              <a:ext cx="373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Residue codes 0, 1 and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(SDLC) kada je postavljen End-of-Frame bit, pokazuju veličinu I-pol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5562720" y="1371600"/>
            <a:ext cx="2743200" cy="1221840"/>
            <a:chOff x="5562720" y="1371600"/>
            <a:chExt cx="2743200" cy="1221840"/>
          </a:xfrm>
        </p:grpSpPr>
        <p:sp>
          <p:nvSpPr>
            <p:cNvPr id="727" name=""/>
            <p:cNvSpPr/>
            <p:nvPr/>
          </p:nvSpPr>
          <p:spPr>
            <a:xfrm>
              <a:off x="584712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62720" y="167652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All Sent                 D0=1 (asinkroni) naznaka da su svi znakovi poslan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2590920" y="1371600"/>
            <a:ext cx="2743200" cy="1221840"/>
            <a:chOff x="2590920" y="1371600"/>
            <a:chExt cx="2743200" cy="1221840"/>
          </a:xfrm>
        </p:grpSpPr>
        <p:sp>
          <p:nvSpPr>
            <p:cNvPr id="730" name=""/>
            <p:cNvSpPr/>
            <p:nvPr/>
          </p:nvSpPr>
          <p:spPr>
            <a:xfrm>
              <a:off x="287532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590920" y="167652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Parity Error                 D4=1 naznaka greške parit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828800" y="1371600"/>
            <a:ext cx="4572000" cy="2909880"/>
            <a:chOff x="1828800" y="1371600"/>
            <a:chExt cx="4572000" cy="2909880"/>
          </a:xfrm>
        </p:grpSpPr>
        <p:sp>
          <p:nvSpPr>
            <p:cNvPr id="733" name=""/>
            <p:cNvSpPr/>
            <p:nvPr/>
          </p:nvSpPr>
          <p:spPr>
            <a:xfrm>
              <a:off x="2209680" y="1371600"/>
              <a:ext cx="0" cy="144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28800" y="281592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Receive/Overrun Error               D5=1 više od tri pristigla znaka nije pročitano od strane procesora, ako je omogućen Status Affect Vector dogodi se prekid sa specijalnim uvjet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066680" y="1371600"/>
            <a:ext cx="4572000" cy="3940200"/>
            <a:chOff x="1066680" y="1371600"/>
            <a:chExt cx="4572000" cy="3940200"/>
          </a:xfrm>
        </p:grpSpPr>
        <p:sp>
          <p:nvSpPr>
            <p:cNvPr id="736" name=""/>
            <p:cNvSpPr/>
            <p:nvPr/>
          </p:nvSpPr>
          <p:spPr>
            <a:xfrm>
              <a:off x="1447560" y="1371600"/>
              <a:ext cx="0" cy="329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66680" y="466920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CRC/Framing Error                    D6=1 (asinkroni) došlo je do greške uokviren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04920" y="1371600"/>
            <a:ext cx="4572000" cy="5482800"/>
            <a:chOff x="304920" y="1371600"/>
            <a:chExt cx="4572000" cy="5482800"/>
          </a:xfrm>
        </p:grpSpPr>
        <p:sp>
          <p:nvSpPr>
            <p:cNvPr id="739" name=""/>
            <p:cNvSpPr/>
            <p:nvPr/>
          </p:nvSpPr>
          <p:spPr>
            <a:xfrm>
              <a:off x="685800" y="1371600"/>
              <a:ext cx="0" cy="429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920" y="5663160"/>
              <a:ext cx="457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End-of-Frame                           D6=1 (SDLC) pristigla je ispravna završna zastavica te su CRC Error i Residue codes također isprav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R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219320" y="914400"/>
            <a:ext cx="5790240" cy="459720"/>
            <a:chOff x="1219320" y="914400"/>
            <a:chExt cx="5790240" cy="459720"/>
          </a:xfrm>
        </p:grpSpPr>
        <p:grpSp>
          <p:nvGrpSpPr>
            <p:cNvPr id="743" name=""/>
            <p:cNvGrpSpPr/>
            <p:nvPr/>
          </p:nvGrpSpPr>
          <p:grpSpPr>
            <a:xfrm>
              <a:off x="1219320" y="914400"/>
              <a:ext cx="2894760" cy="459720"/>
              <a:chOff x="1219320" y="914400"/>
              <a:chExt cx="2894760" cy="45972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1219320" y="914400"/>
                <a:ext cx="1447200" cy="459720"/>
                <a:chOff x="1219320" y="914400"/>
                <a:chExt cx="1447200" cy="4597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19429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2193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2666880" y="914400"/>
                <a:ext cx="1447200" cy="459720"/>
                <a:chOff x="2666880" y="914400"/>
                <a:chExt cx="1447200" cy="45972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3390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26668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0" name=""/>
            <p:cNvGrpSpPr/>
            <p:nvPr/>
          </p:nvGrpSpPr>
          <p:grpSpPr>
            <a:xfrm>
              <a:off x="4114800" y="914400"/>
              <a:ext cx="2894760" cy="459720"/>
              <a:chOff x="4114800" y="914400"/>
              <a:chExt cx="2894760" cy="45972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4114800" y="914400"/>
                <a:ext cx="1447200" cy="459720"/>
                <a:chOff x="4114800" y="914400"/>
                <a:chExt cx="1447200" cy="4597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4838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41148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5562360" y="914400"/>
                <a:ext cx="1447200" cy="459720"/>
                <a:chOff x="5562360" y="914400"/>
                <a:chExt cx="1447200" cy="4597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62859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5623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7" name=""/>
          <p:cNvSpPr/>
          <p:nvPr/>
        </p:nvSpPr>
        <p:spPr>
          <a:xfrm>
            <a:off x="838080" y="4876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samo kanal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adrži prekidni vektor zapisan u WR2 ako Status Affect Vector nije postavljen, a ako je postavljen tada su V3-V1 modificirani prema specijalnom uvjetu prekida najvišeg priorit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600200" y="1371600"/>
            <a:ext cx="5943600" cy="3035160"/>
            <a:chOff x="1600200" y="1371600"/>
            <a:chExt cx="5943600" cy="3035160"/>
          </a:xfrm>
        </p:grpSpPr>
        <p:sp>
          <p:nvSpPr>
            <p:cNvPr id="759" name=""/>
            <p:cNvSpPr/>
            <p:nvPr/>
          </p:nvSpPr>
          <p:spPr>
            <a:xfrm>
              <a:off x="670572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010280" y="15238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05720" y="17524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43600" y="13716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181480" y="1371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495680" y="13716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733920" y="137160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48120" y="13716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371600"/>
              <a:ext cx="0" cy="25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00200" y="1371600"/>
              <a:ext cx="0" cy="289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43600" y="20574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81480" y="23623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95680" y="274320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3920" y="312408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048120" y="3505320"/>
              <a:ext cx="396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86000" y="3886200"/>
              <a:ext cx="472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600200" y="4267080"/>
              <a:ext cx="541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010280" y="1828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010280" y="21337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10280" y="2514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010280" y="2895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010280" y="32767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010280" y="3657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0102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7467480" y="1600200"/>
            <a:ext cx="381240" cy="2743200"/>
          </a:xfrm>
          <a:custGeom>
            <a:avLst/>
            <a:gdLst>
              <a:gd name="textAreaLeft" fmla="*/ 0 w 381240"/>
              <a:gd name="textAreaRight" fmla="*/ 13752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805880" y="2639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KIDNI VE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Zadata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Verdana"/>
              </a:rPr>
              <a:t>Inicijalizirati SIO sklop na slijedeći način: prekid omogućen od strane Rx, omogućen Rx uz 8 bita po znaku, omogućen Tx uz 8 bita po znaku, brzina 32 puta veća od signala takta. Pročitati podatak sa ulaza i ispisati ga na izlaz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0" y="228600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042920" y="2332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DEFINICIJA ADRESA PORT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4419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IZBOR WR4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143000" y="5334120"/>
            <a:ext cx="272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SLANJE KONTROLNE RIJEČI U WR4 – X32 CLOCK, 1 STOP B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43000" y="38098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ORG 0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9480" y="2362320"/>
            <a:ext cx="3048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OA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QU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020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OB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QU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021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OAC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QU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022H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OBC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QU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023H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943600" y="2209680"/>
            <a:ext cx="27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IZBOR WR1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143000" y="4343400"/>
            <a:ext cx="304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U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SIOAC),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43000" y="5257800"/>
            <a:ext cx="304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,</a:t>
            </a:r>
            <a:r>
              <a:rPr b="0" lang="hr-HR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10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0</a:t>
            </a:r>
            <a:r>
              <a:rPr b="0" lang="hr-HR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01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U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SIOAC),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715000" y="2209680"/>
            <a:ext cx="304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U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SIOAC),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867280" y="2971800"/>
            <a:ext cx="272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SLANJE KONTROLNE RIJEČI U WR1 – PREKID NA SVAKI RX ZN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3048120"/>
            <a:ext cx="304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,000</a:t>
            </a:r>
            <a:r>
              <a:rPr b="0" lang="hr-HR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11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0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U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SIOAC),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867280" y="4267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IZBOR WR3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867280" y="4876920"/>
            <a:ext cx="27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SLANJE KONTROLNE RIJEČI U WR3 – Rx OMOGUĆEN, 8 BITA/ZNA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715000" y="4191120"/>
            <a:ext cx="304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U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SIOAC),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715000" y="5029200"/>
            <a:ext cx="304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,</a:t>
            </a:r>
            <a:r>
              <a:rPr b="0" lang="hr-HR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11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0000</a:t>
            </a:r>
            <a:r>
              <a:rPr b="0" lang="hr-HR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1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U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SIOAC),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Zadata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"/>
          <p:cNvSpPr/>
          <p:nvPr/>
        </p:nvSpPr>
        <p:spPr>
          <a:xfrm>
            <a:off x="4572000" y="1371600"/>
            <a:ext cx="0" cy="4800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066680" y="1523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IZBOR WR5 REG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6680" y="2286000"/>
            <a:ext cx="27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SLANJE KONTROLNE RIJEČI U WR5 – Tx OMOGUĆEN, 8 BITA/ZNA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066680" y="1219320"/>
            <a:ext cx="304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U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SIOAC),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3048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D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,0</a:t>
            </a:r>
            <a:r>
              <a:rPr b="0" lang="hr-HR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11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</a:t>
            </a:r>
            <a:r>
              <a:rPr b="0" lang="hr-HR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1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0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U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SIOAC),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066680" y="3886200"/>
            <a:ext cx="27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ČITANJE PODATKA SA ULAZA UZ PROVJERU JE LI PODATAK DOSTU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066680" y="3809880"/>
            <a:ext cx="30481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O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,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SIO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I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0,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R</a:t>
            </a:r>
            <a:r>
              <a:rPr b="0" lang="hr-H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, SI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</a:t>
            </a:r>
            <a:r>
              <a:rPr b="0" lang="hr-H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,(SIO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410080" y="1371600"/>
            <a:ext cx="272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SLANJE PODATKA NA IZLAZ UZ ČEKANJE DA SE PODATAK POKU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410080" y="1447920"/>
            <a:ext cx="30481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U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SIOAD)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OO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,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SIO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IT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,A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R</a:t>
            </a:r>
            <a:r>
              <a:rPr b="0" lang="hr-H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,SIO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410080" y="350532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9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Z80 S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Dvokanalni multifunkcionalni sklop za raznovrsne zahtjeve serijske komunikacij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TTL kompatibilni ulazi i izlaz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erijsko-paralelni i paralelno-serijski konver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održava asinkrone i sinkrone byte-orijentirane protokole te sinkrone bit-orijentirane protoko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Generiranje i provjera CRC kodova i integriteta podata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ontrola modema na oba kanala kroz odvojene statusne i upravljačke linij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Daisy-Chain logika prekidnih prioriteta ne zahtjeva dodatnu vanjsku logik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INOU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685800"/>
            <a:ext cx="3276720" cy="56386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295280"/>
            <a:ext cx="1295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DATKOVNA SABI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6858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343400"/>
            <a:ext cx="1295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PAJANJE I TA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200400"/>
            <a:ext cx="12952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ONTROLA SIO SKL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81952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3352680"/>
            <a:ext cx="21333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80 SIO/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00200" y="838080"/>
            <a:ext cx="1066320" cy="325440"/>
            <a:chOff x="1600200" y="838080"/>
            <a:chExt cx="1066320" cy="325440"/>
          </a:xfrm>
        </p:grpSpPr>
        <p:sp>
          <p:nvSpPr>
            <p:cNvPr id="93" name=""/>
            <p:cNvSpPr/>
            <p:nvPr/>
          </p:nvSpPr>
          <p:spPr>
            <a:xfrm>
              <a:off x="1981080" y="10666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00200" y="9140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09680" y="8380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600200" y="609480"/>
            <a:ext cx="1066320" cy="325440"/>
            <a:chOff x="1600200" y="609480"/>
            <a:chExt cx="1066320" cy="325440"/>
          </a:xfrm>
        </p:grpSpPr>
        <p:sp>
          <p:nvSpPr>
            <p:cNvPr id="97" name=""/>
            <p:cNvSpPr/>
            <p:nvPr/>
          </p:nvSpPr>
          <p:spPr>
            <a:xfrm>
              <a:off x="1981080" y="838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600200" y="6854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6094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600200" y="1295280"/>
            <a:ext cx="1066320" cy="325440"/>
            <a:chOff x="1600200" y="1295280"/>
            <a:chExt cx="1066320" cy="325440"/>
          </a:xfrm>
        </p:grpSpPr>
        <p:sp>
          <p:nvSpPr>
            <p:cNvPr id="101" name=""/>
            <p:cNvSpPr/>
            <p:nvPr/>
          </p:nvSpPr>
          <p:spPr>
            <a:xfrm>
              <a:off x="1981080" y="15238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00200" y="13712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09680" y="12952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600200" y="1066680"/>
            <a:ext cx="1066320" cy="325440"/>
            <a:chOff x="1600200" y="1066680"/>
            <a:chExt cx="1066320" cy="325440"/>
          </a:xfrm>
        </p:grpSpPr>
        <p:sp>
          <p:nvSpPr>
            <p:cNvPr id="105" name=""/>
            <p:cNvSpPr/>
            <p:nvPr/>
          </p:nvSpPr>
          <p:spPr>
            <a:xfrm>
              <a:off x="1981080" y="12952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00200" y="11426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09680" y="10666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600200" y="1523880"/>
            <a:ext cx="1066320" cy="325440"/>
            <a:chOff x="1600200" y="1523880"/>
            <a:chExt cx="1066320" cy="325440"/>
          </a:xfrm>
        </p:grpSpPr>
        <p:sp>
          <p:nvSpPr>
            <p:cNvPr id="109" name=""/>
            <p:cNvSpPr/>
            <p:nvPr/>
          </p:nvSpPr>
          <p:spPr>
            <a:xfrm>
              <a:off x="1981080" y="1752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0200" y="15998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9680" y="15238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600200" y="1752480"/>
            <a:ext cx="1066320" cy="325440"/>
            <a:chOff x="1600200" y="1752480"/>
            <a:chExt cx="1066320" cy="325440"/>
          </a:xfrm>
        </p:grpSpPr>
        <p:sp>
          <p:nvSpPr>
            <p:cNvPr id="113" name=""/>
            <p:cNvSpPr/>
            <p:nvPr/>
          </p:nvSpPr>
          <p:spPr>
            <a:xfrm>
              <a:off x="1981080" y="1981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00200" y="18284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17524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600200" y="1981080"/>
            <a:ext cx="1066320" cy="325440"/>
            <a:chOff x="1600200" y="1981080"/>
            <a:chExt cx="1066320" cy="325440"/>
          </a:xfrm>
        </p:grpSpPr>
        <p:sp>
          <p:nvSpPr>
            <p:cNvPr id="117" name=""/>
            <p:cNvSpPr/>
            <p:nvPr/>
          </p:nvSpPr>
          <p:spPr>
            <a:xfrm>
              <a:off x="1981080" y="22096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00200" y="20570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19810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00200" y="2209680"/>
            <a:ext cx="1066320" cy="325440"/>
            <a:chOff x="1600200" y="2209680"/>
            <a:chExt cx="1066320" cy="325440"/>
          </a:xfrm>
        </p:grpSpPr>
        <p:sp>
          <p:nvSpPr>
            <p:cNvPr id="121" name=""/>
            <p:cNvSpPr/>
            <p:nvPr/>
          </p:nvSpPr>
          <p:spPr>
            <a:xfrm>
              <a:off x="1981080" y="24382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0200" y="22856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2096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600200" y="5257800"/>
            <a:ext cx="1066680" cy="325800"/>
            <a:chOff x="1600200" y="5257800"/>
            <a:chExt cx="1066680" cy="325800"/>
          </a:xfrm>
        </p:grpSpPr>
        <p:sp>
          <p:nvSpPr>
            <p:cNvPr id="125" name=""/>
            <p:cNvSpPr/>
            <p:nvPr/>
          </p:nvSpPr>
          <p:spPr>
            <a:xfrm>
              <a:off x="1981080" y="548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0200" y="53341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7400" y="52578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62160" y="529596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00200" y="2743200"/>
            <a:ext cx="1066320" cy="325800"/>
            <a:chOff x="1600200" y="2743200"/>
            <a:chExt cx="1066320" cy="325800"/>
          </a:xfrm>
        </p:grpSpPr>
        <p:sp>
          <p:nvSpPr>
            <p:cNvPr id="130" name=""/>
            <p:cNvSpPr/>
            <p:nvPr/>
          </p:nvSpPr>
          <p:spPr>
            <a:xfrm>
              <a:off x="1981080" y="2971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0200" y="28195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7040" y="27432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2781360"/>
              <a:ext cx="22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00200" y="3200400"/>
            <a:ext cx="1066320" cy="325800"/>
            <a:chOff x="1600200" y="3200400"/>
            <a:chExt cx="1066320" cy="325800"/>
          </a:xfrm>
        </p:grpSpPr>
        <p:sp>
          <p:nvSpPr>
            <p:cNvPr id="135" name=""/>
            <p:cNvSpPr/>
            <p:nvPr/>
          </p:nvSpPr>
          <p:spPr>
            <a:xfrm>
              <a:off x="1981080" y="34290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0200" y="32767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57040" y="32004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09680" y="3238560"/>
              <a:ext cx="22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600200" y="3429000"/>
            <a:ext cx="1066680" cy="325800"/>
            <a:chOff x="1600200" y="3429000"/>
            <a:chExt cx="1066680" cy="325800"/>
          </a:xfrm>
        </p:grpSpPr>
        <p:sp>
          <p:nvSpPr>
            <p:cNvPr id="140" name=""/>
            <p:cNvSpPr/>
            <p:nvPr/>
          </p:nvSpPr>
          <p:spPr>
            <a:xfrm>
              <a:off x="1981080" y="3657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35053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3429000"/>
              <a:ext cx="533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OR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85840" y="34671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600200" y="3657600"/>
            <a:ext cx="1066320" cy="325800"/>
            <a:chOff x="1600200" y="3657600"/>
            <a:chExt cx="1066320" cy="325800"/>
          </a:xfrm>
        </p:grpSpPr>
        <p:sp>
          <p:nvSpPr>
            <p:cNvPr id="145" name=""/>
            <p:cNvSpPr/>
            <p:nvPr/>
          </p:nvSpPr>
          <p:spPr>
            <a:xfrm>
              <a:off x="1981080" y="38862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37339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57040" y="36576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3695760"/>
              <a:ext cx="22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00200" y="4191120"/>
            <a:ext cx="1066320" cy="325440"/>
            <a:chOff x="1600200" y="4191120"/>
            <a:chExt cx="1066320" cy="325440"/>
          </a:xfrm>
        </p:grpSpPr>
        <p:sp>
          <p:nvSpPr>
            <p:cNvPr id="150" name=""/>
            <p:cNvSpPr/>
            <p:nvPr/>
          </p:nvSpPr>
          <p:spPr>
            <a:xfrm>
              <a:off x="1981080" y="44193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426708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57040" y="419112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+5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600200" y="4648320"/>
            <a:ext cx="1066320" cy="325440"/>
            <a:chOff x="1600200" y="4648320"/>
            <a:chExt cx="1066320" cy="325440"/>
          </a:xfrm>
        </p:grpSpPr>
        <p:sp>
          <p:nvSpPr>
            <p:cNvPr id="154" name=""/>
            <p:cNvSpPr/>
            <p:nvPr/>
          </p:nvSpPr>
          <p:spPr>
            <a:xfrm>
              <a:off x="1981080" y="48765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472428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57040" y="464832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600200" y="4419720"/>
            <a:ext cx="1066320" cy="325440"/>
            <a:chOff x="1600200" y="4419720"/>
            <a:chExt cx="1066320" cy="325440"/>
          </a:xfrm>
        </p:grpSpPr>
        <p:sp>
          <p:nvSpPr>
            <p:cNvPr id="158" name=""/>
            <p:cNvSpPr/>
            <p:nvPr/>
          </p:nvSpPr>
          <p:spPr>
            <a:xfrm>
              <a:off x="1981080" y="46479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0200" y="449568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7040" y="441972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200400" y="6324480"/>
            <a:ext cx="762120" cy="325800"/>
            <a:chOff x="3200400" y="6324480"/>
            <a:chExt cx="762120" cy="325800"/>
          </a:xfrm>
        </p:grpSpPr>
        <p:sp>
          <p:nvSpPr>
            <p:cNvPr id="162" name=""/>
            <p:cNvSpPr/>
            <p:nvPr/>
          </p:nvSpPr>
          <p:spPr>
            <a:xfrm>
              <a:off x="3505320" y="632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0400" y="640080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429000" y="6400800"/>
              <a:ext cx="533520" cy="249480"/>
              <a:chOff x="3429000" y="6400800"/>
              <a:chExt cx="533520" cy="24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3429000" y="6400800"/>
                <a:ext cx="53352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C/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20960" y="6413760"/>
                <a:ext cx="12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1600200" y="5486400"/>
            <a:ext cx="1066680" cy="325800"/>
            <a:chOff x="1600200" y="5486400"/>
            <a:chExt cx="1066680" cy="325800"/>
          </a:xfrm>
        </p:grpSpPr>
        <p:sp>
          <p:nvSpPr>
            <p:cNvPr id="168" name=""/>
            <p:cNvSpPr/>
            <p:nvPr/>
          </p:nvSpPr>
          <p:spPr>
            <a:xfrm>
              <a:off x="1981080" y="5715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55627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057400" y="54864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IE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62160" y="552456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447920" y="42670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33412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5486400"/>
            <a:ext cx="1295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ONTROLA PREK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153280" y="685800"/>
            <a:ext cx="304920" cy="243828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1880" y="1752480"/>
            <a:ext cx="6098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943600" y="1066680"/>
            <a:ext cx="1218960" cy="325440"/>
            <a:chOff x="5943600" y="1066680"/>
            <a:chExt cx="1218960" cy="325440"/>
          </a:xfrm>
        </p:grpSpPr>
        <p:sp>
          <p:nvSpPr>
            <p:cNvPr id="178" name=""/>
            <p:cNvSpPr/>
            <p:nvPr/>
          </p:nvSpPr>
          <p:spPr>
            <a:xfrm>
              <a:off x="5943600" y="1295280"/>
              <a:ext cx="84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93480" y="1142640"/>
              <a:ext cx="469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37200" y="1066680"/>
              <a:ext cx="6559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x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600200" y="2971800"/>
            <a:ext cx="1066680" cy="325440"/>
            <a:chOff x="1600200" y="2971800"/>
            <a:chExt cx="1066680" cy="325440"/>
          </a:xfrm>
        </p:grpSpPr>
        <p:sp>
          <p:nvSpPr>
            <p:cNvPr id="182" name=""/>
            <p:cNvSpPr/>
            <p:nvPr/>
          </p:nvSpPr>
          <p:spPr>
            <a:xfrm>
              <a:off x="1981080" y="3200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0200" y="304776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81080" y="2971800"/>
              <a:ext cx="685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85840" y="30099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943600" y="609480"/>
            <a:ext cx="1218960" cy="325440"/>
            <a:chOff x="5943600" y="609480"/>
            <a:chExt cx="1218960" cy="325440"/>
          </a:xfrm>
        </p:grpSpPr>
        <p:sp>
          <p:nvSpPr>
            <p:cNvPr id="187" name=""/>
            <p:cNvSpPr/>
            <p:nvPr/>
          </p:nvSpPr>
          <p:spPr>
            <a:xfrm>
              <a:off x="5943600" y="838080"/>
              <a:ext cx="84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93480" y="685440"/>
              <a:ext cx="469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37200" y="609480"/>
              <a:ext cx="6559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x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943600" y="838080"/>
            <a:ext cx="1218960" cy="325800"/>
            <a:chOff x="5943600" y="838080"/>
            <a:chExt cx="1218960" cy="325800"/>
          </a:xfrm>
        </p:grpSpPr>
        <p:sp>
          <p:nvSpPr>
            <p:cNvPr id="191" name=""/>
            <p:cNvSpPr/>
            <p:nvPr/>
          </p:nvSpPr>
          <p:spPr>
            <a:xfrm>
              <a:off x="5943600" y="106668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93840" y="91440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36840" y="83808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x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7680" y="87948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943600" y="1295280"/>
            <a:ext cx="1218960" cy="325800"/>
            <a:chOff x="5943600" y="1295280"/>
            <a:chExt cx="1218960" cy="325800"/>
          </a:xfrm>
        </p:grpSpPr>
        <p:sp>
          <p:nvSpPr>
            <p:cNvPr id="196" name=""/>
            <p:cNvSpPr/>
            <p:nvPr/>
          </p:nvSpPr>
          <p:spPr>
            <a:xfrm>
              <a:off x="5943600" y="152388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93840" y="137160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36840" y="129528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x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7680" y="133668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943600" y="2438280"/>
            <a:ext cx="1218960" cy="325800"/>
            <a:chOff x="5943600" y="2438280"/>
            <a:chExt cx="1218960" cy="325800"/>
          </a:xfrm>
        </p:grpSpPr>
        <p:sp>
          <p:nvSpPr>
            <p:cNvPr id="201" name=""/>
            <p:cNvSpPr/>
            <p:nvPr/>
          </p:nvSpPr>
          <p:spPr>
            <a:xfrm>
              <a:off x="5943600" y="266688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93840" y="251460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36840" y="243828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T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97680" y="247968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943600" y="2209680"/>
            <a:ext cx="1218960" cy="325800"/>
            <a:chOff x="5943600" y="2209680"/>
            <a:chExt cx="1218960" cy="325800"/>
          </a:xfrm>
        </p:grpSpPr>
        <p:sp>
          <p:nvSpPr>
            <p:cNvPr id="206" name=""/>
            <p:cNvSpPr/>
            <p:nvPr/>
          </p:nvSpPr>
          <p:spPr>
            <a:xfrm>
              <a:off x="5943600" y="243828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93840" y="228600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36840" y="220968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T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7680" y="225108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943600" y="2895480"/>
            <a:ext cx="1218960" cy="325800"/>
            <a:chOff x="5943600" y="2895480"/>
            <a:chExt cx="1218960" cy="325800"/>
          </a:xfrm>
        </p:grpSpPr>
        <p:sp>
          <p:nvSpPr>
            <p:cNvPr id="211" name=""/>
            <p:cNvSpPr/>
            <p:nvPr/>
          </p:nvSpPr>
          <p:spPr>
            <a:xfrm>
              <a:off x="5943600" y="312408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93840" y="297180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36840" y="289548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C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7680" y="293688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943600" y="2666880"/>
            <a:ext cx="1218960" cy="325800"/>
            <a:chOff x="5943600" y="2666880"/>
            <a:chExt cx="1218960" cy="325800"/>
          </a:xfrm>
        </p:grpSpPr>
        <p:sp>
          <p:nvSpPr>
            <p:cNvPr id="216" name=""/>
            <p:cNvSpPr/>
            <p:nvPr/>
          </p:nvSpPr>
          <p:spPr>
            <a:xfrm>
              <a:off x="5943600" y="289548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3840" y="274320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36840" y="266688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T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97680" y="270828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7010280" y="228600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2514600"/>
            <a:ext cx="1295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ONTROLA MOD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943600" y="1523880"/>
            <a:ext cx="1218960" cy="325800"/>
            <a:chOff x="5943600" y="1523880"/>
            <a:chExt cx="1218960" cy="325800"/>
          </a:xfrm>
        </p:grpSpPr>
        <p:sp>
          <p:nvSpPr>
            <p:cNvPr id="223" name=""/>
            <p:cNvSpPr/>
            <p:nvPr/>
          </p:nvSpPr>
          <p:spPr>
            <a:xfrm>
              <a:off x="5943600" y="175248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93840" y="160020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36840" y="152388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YN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7680" y="156528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867280" y="1752480"/>
            <a:ext cx="1295280" cy="325800"/>
            <a:chOff x="5867280" y="1752480"/>
            <a:chExt cx="1295280" cy="325800"/>
          </a:xfrm>
        </p:grpSpPr>
        <p:sp>
          <p:nvSpPr>
            <p:cNvPr id="228" name=""/>
            <p:cNvSpPr/>
            <p:nvPr/>
          </p:nvSpPr>
          <p:spPr>
            <a:xfrm>
              <a:off x="5943240" y="1981080"/>
              <a:ext cx="8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4200" y="1828800"/>
              <a:ext cx="4683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1752480"/>
              <a:ext cx="838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/RD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89320" y="1793880"/>
              <a:ext cx="64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8153280" y="3505320"/>
            <a:ext cx="304920" cy="2514600"/>
          </a:xfrm>
          <a:custGeom>
            <a:avLst/>
            <a:gdLst>
              <a:gd name="textAreaLeft" fmla="*/ 0 w 304920"/>
              <a:gd name="textAreaRight" fmla="*/ 11016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381880" y="4572000"/>
            <a:ext cx="6098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943600" y="3886200"/>
            <a:ext cx="1218960" cy="325440"/>
            <a:chOff x="5943600" y="3886200"/>
            <a:chExt cx="1218960" cy="325440"/>
          </a:xfrm>
        </p:grpSpPr>
        <p:sp>
          <p:nvSpPr>
            <p:cNvPr id="235" name=""/>
            <p:cNvSpPr/>
            <p:nvPr/>
          </p:nvSpPr>
          <p:spPr>
            <a:xfrm>
              <a:off x="5943600" y="4114800"/>
              <a:ext cx="84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3480" y="3962160"/>
              <a:ext cx="469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37200" y="3886200"/>
              <a:ext cx="6559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x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943600" y="3429000"/>
            <a:ext cx="1218960" cy="325440"/>
            <a:chOff x="5943600" y="3429000"/>
            <a:chExt cx="1218960" cy="325440"/>
          </a:xfrm>
        </p:grpSpPr>
        <p:sp>
          <p:nvSpPr>
            <p:cNvPr id="239" name=""/>
            <p:cNvSpPr/>
            <p:nvPr/>
          </p:nvSpPr>
          <p:spPr>
            <a:xfrm>
              <a:off x="5943600" y="3657600"/>
              <a:ext cx="84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93480" y="3504960"/>
              <a:ext cx="469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37200" y="3429000"/>
              <a:ext cx="6559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x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943600" y="5257800"/>
            <a:ext cx="1218960" cy="325800"/>
            <a:chOff x="5943600" y="5257800"/>
            <a:chExt cx="1218960" cy="325800"/>
          </a:xfrm>
        </p:grpSpPr>
        <p:sp>
          <p:nvSpPr>
            <p:cNvPr id="243" name=""/>
            <p:cNvSpPr/>
            <p:nvPr/>
          </p:nvSpPr>
          <p:spPr>
            <a:xfrm>
              <a:off x="5943600" y="548640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93840" y="533412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036840" y="525780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T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097680" y="529920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943600" y="5029200"/>
            <a:ext cx="1218960" cy="325800"/>
            <a:chOff x="5943600" y="5029200"/>
            <a:chExt cx="1218960" cy="325800"/>
          </a:xfrm>
        </p:grpSpPr>
        <p:sp>
          <p:nvSpPr>
            <p:cNvPr id="248" name=""/>
            <p:cNvSpPr/>
            <p:nvPr/>
          </p:nvSpPr>
          <p:spPr>
            <a:xfrm>
              <a:off x="5943600" y="525780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93840" y="510552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36840" y="502920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TS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97680" y="507060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943600" y="5715000"/>
            <a:ext cx="1218960" cy="325800"/>
            <a:chOff x="5943600" y="5715000"/>
            <a:chExt cx="1218960" cy="325800"/>
          </a:xfrm>
        </p:grpSpPr>
        <p:sp>
          <p:nvSpPr>
            <p:cNvPr id="253" name=""/>
            <p:cNvSpPr/>
            <p:nvPr/>
          </p:nvSpPr>
          <p:spPr>
            <a:xfrm>
              <a:off x="5943600" y="594360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93840" y="579132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6840" y="571500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C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97680" y="575640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943600" y="5486400"/>
            <a:ext cx="1218960" cy="325800"/>
            <a:chOff x="5943600" y="5486400"/>
            <a:chExt cx="1218960" cy="325800"/>
          </a:xfrm>
        </p:grpSpPr>
        <p:sp>
          <p:nvSpPr>
            <p:cNvPr id="258" name=""/>
            <p:cNvSpPr/>
            <p:nvPr/>
          </p:nvSpPr>
          <p:spPr>
            <a:xfrm>
              <a:off x="5943600" y="571500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93840" y="556272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036840" y="548640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T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7680" y="552780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010280" y="510552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38880" y="5334120"/>
            <a:ext cx="1295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ONTROLA MOD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943600" y="4114800"/>
            <a:ext cx="1218960" cy="325800"/>
            <a:chOff x="5943600" y="4114800"/>
            <a:chExt cx="1218960" cy="325800"/>
          </a:xfrm>
        </p:grpSpPr>
        <p:sp>
          <p:nvSpPr>
            <p:cNvPr id="265" name=""/>
            <p:cNvSpPr/>
            <p:nvPr/>
          </p:nvSpPr>
          <p:spPr>
            <a:xfrm>
              <a:off x="5943600" y="4343400"/>
              <a:ext cx="84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93840" y="4191120"/>
              <a:ext cx="468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36840" y="4114800"/>
              <a:ext cx="6566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YNC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97680" y="4156200"/>
              <a:ext cx="56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67280" y="4343400"/>
            <a:ext cx="1295280" cy="325800"/>
            <a:chOff x="5867280" y="4343400"/>
            <a:chExt cx="1295280" cy="325800"/>
          </a:xfrm>
        </p:grpSpPr>
        <p:sp>
          <p:nvSpPr>
            <p:cNvPr id="270" name=""/>
            <p:cNvSpPr/>
            <p:nvPr/>
          </p:nvSpPr>
          <p:spPr>
            <a:xfrm>
              <a:off x="5943240" y="4572000"/>
              <a:ext cx="8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694200" y="4419720"/>
              <a:ext cx="4683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7280" y="4343400"/>
              <a:ext cx="838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W/RDY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89320" y="4384800"/>
              <a:ext cx="64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943600" y="3657600"/>
            <a:ext cx="1218960" cy="325800"/>
            <a:chOff x="5943600" y="3657600"/>
            <a:chExt cx="1218960" cy="325800"/>
          </a:xfrm>
        </p:grpSpPr>
        <p:sp>
          <p:nvSpPr>
            <p:cNvPr id="275" name=""/>
            <p:cNvSpPr/>
            <p:nvPr/>
          </p:nvSpPr>
          <p:spPr>
            <a:xfrm>
              <a:off x="5943600" y="3886200"/>
              <a:ext cx="84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94200" y="3733920"/>
              <a:ext cx="4683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3600" y="3657600"/>
              <a:ext cx="838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RxTxC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89680" y="3699000"/>
              <a:ext cx="645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572000" y="6324480"/>
            <a:ext cx="762120" cy="325800"/>
            <a:chOff x="4572000" y="6324480"/>
            <a:chExt cx="762120" cy="325800"/>
          </a:xfrm>
        </p:grpSpPr>
        <p:sp>
          <p:nvSpPr>
            <p:cNvPr id="280" name=""/>
            <p:cNvSpPr/>
            <p:nvPr/>
          </p:nvSpPr>
          <p:spPr>
            <a:xfrm>
              <a:off x="4876920" y="632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72000" y="640080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4800600" y="6400800"/>
              <a:ext cx="533520" cy="249480"/>
              <a:chOff x="4800600" y="6400800"/>
              <a:chExt cx="533520" cy="249480"/>
            </a:xfrm>
          </p:grpSpPr>
          <p:sp>
            <p:nvSpPr>
              <p:cNvPr id="283" name=""/>
              <p:cNvSpPr/>
              <p:nvPr/>
            </p:nvSpPr>
            <p:spPr>
              <a:xfrm>
                <a:off x="4800600" y="6400800"/>
                <a:ext cx="53352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B/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092560" y="6413760"/>
                <a:ext cx="128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rna struktur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nterna struktura uključu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Z80 CPU sučelj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Unutarnja logika upravljanja i preki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Dva full-duplex kana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vakom kanalu su pridruženi registri za čitanje i pisanje te upravljačka i statusna logika koja čini sučelje za modeme ili druge vanjske uređaj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R7–WR0 —Registri za pisanje od 0 do 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R2–RR0— Registri za čitanje od 0 do 2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egistri za čitanje i pisanje uključuju pet 8-bitnih kontrolnih registara, dva sync-character registra i dva statusna registr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ekidni vektor SIO sklopa sprema se u dodatni 8-bit registar (WR 2) kanala B koji se može čitati kroz RR 2 kanala B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gramiranje Z80 S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Oba kanala imaju kontrolne registre koje prije korištenja serijske komunikacije treba programirat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rogramiranje podrazumijeva slanje niza komandi z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inicijalizaciju načina 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onfiguraciju odabranog načina r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imjer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Asinkroni način rada 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duljina znaka 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takt 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broj stop bitova 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paran ili neparan paritet 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prekidni način rada 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 omogućenje prijemnika ili predajnik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ntrolni registri se programiraju odvojen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Izuzev WR0 programiranje zahtjeva 2 byte-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Byte u kojem bitovi (D2-D0) pokazuju na ciljani registar, zapisuje se u WR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ontrolna riječ koja se zapisuje u ciljani registar na koji pokazuju pokazivački bitovi registra WR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WR0 je jedinstven jer se njegovim osnovnim instrukcijama  može pristupiti jednim byte-om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Reset sklopa inicijalizira bitove pokazivače D0-D2 na WR0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Osnovne instrukcije i kontrola CRC-a je sadržana u prvom byte-u svih registara za pisanj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unkcije registar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Funkcije registara za pis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R0 – Pokazivač na registre, inicijalizacija CRC-a, inicijalizacija naredbi za različite načine rad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R1 – prekid slanja i primanja, definicija načina prijenosa podatak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R2 – Prekidni vektor (samo kanal B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R3 – Parametri i kontrola primanj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R4 – raznovrsni  parametri za slanje i primanj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R5 – Parametri i kontrola slanj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R6 – Sync znak registar ili SDLC (Syncronus Data Link Control) adresno polj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WR7 – Sync znak registar ili SDLC zastav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Funkcije registara za čitan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R0 – Status spremnika za slanje i primanje, vanjski stat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R1 – Status uvjeta specijalnog slanj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R2 – Modificirani prekidni vektor (samo kanal B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R0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219320" y="914400"/>
            <a:ext cx="5790240" cy="459720"/>
            <a:chOff x="1219320" y="914400"/>
            <a:chExt cx="5790240" cy="459720"/>
          </a:xfrm>
        </p:grpSpPr>
        <p:grpSp>
          <p:nvGrpSpPr>
            <p:cNvPr id="293" name=""/>
            <p:cNvGrpSpPr/>
            <p:nvPr/>
          </p:nvGrpSpPr>
          <p:grpSpPr>
            <a:xfrm>
              <a:off x="1219320" y="914400"/>
              <a:ext cx="2894760" cy="459720"/>
              <a:chOff x="1219320" y="914400"/>
              <a:chExt cx="2894760" cy="45972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1219320" y="914400"/>
                <a:ext cx="1447200" cy="459720"/>
                <a:chOff x="1219320" y="914400"/>
                <a:chExt cx="1447200" cy="4597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19429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12193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2666880" y="914400"/>
                <a:ext cx="1447200" cy="459720"/>
                <a:chOff x="2666880" y="914400"/>
                <a:chExt cx="1447200" cy="4597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390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6668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4114800" y="914400"/>
              <a:ext cx="2894760" cy="459720"/>
              <a:chOff x="4114800" y="914400"/>
              <a:chExt cx="2894760" cy="45972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4114800" y="914400"/>
                <a:ext cx="1447200" cy="459720"/>
                <a:chOff x="4114800" y="914400"/>
                <a:chExt cx="1447200" cy="4597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38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1148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562360" y="914400"/>
                <a:ext cx="1447200" cy="459720"/>
                <a:chOff x="5562360" y="914400"/>
                <a:chExt cx="1447200" cy="4597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2859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5623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307" name=""/>
          <p:cNvGraphicFramePr/>
          <p:nvPr/>
        </p:nvGraphicFramePr>
        <p:xfrm>
          <a:off x="4800600" y="1676520"/>
          <a:ext cx="4038480" cy="2311200"/>
        </p:xfrm>
        <a:graphic>
          <a:graphicData uri="http://schemas.openxmlformats.org/drawingml/2006/table">
            <a:tbl>
              <a:tblPr/>
              <a:tblGrid>
                <a:gridCol w="733320"/>
                <a:gridCol w="761760"/>
                <a:gridCol w="714600"/>
                <a:gridCol w="1828800"/>
              </a:tblGrid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AR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AR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AR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AR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AR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AR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1143000" y="2514600"/>
          <a:ext cx="4419720" cy="1979640"/>
        </p:xfrm>
        <a:graphic>
          <a:graphicData uri="http://schemas.openxmlformats.org/drawingml/2006/table">
            <a:tbl>
              <a:tblPr/>
              <a:tblGrid>
                <a:gridCol w="773280"/>
                <a:gridCol w="723600"/>
                <a:gridCol w="2922840"/>
              </a:tblGrid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 K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T Rx CRC PROVJ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T Tx CRC GENERAT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T Tx Underrun/EOM DOHV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5181480" y="1371600"/>
            <a:ext cx="1524240" cy="304920"/>
            <a:chOff x="5181480" y="1371600"/>
            <a:chExt cx="1524240" cy="304920"/>
          </a:xfrm>
        </p:grpSpPr>
        <p:sp>
          <p:nvSpPr>
            <p:cNvPr id="310" name=""/>
            <p:cNvSpPr/>
            <p:nvPr/>
          </p:nvSpPr>
          <p:spPr>
            <a:xfrm>
              <a:off x="5943600" y="1371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05720" y="1371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81480" y="1371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3" name=""/>
          <p:cNvGraphicFramePr/>
          <p:nvPr/>
        </p:nvGraphicFramePr>
        <p:xfrm>
          <a:off x="2666880" y="2057400"/>
          <a:ext cx="5486400" cy="2585880"/>
        </p:xfrm>
        <a:graphic>
          <a:graphicData uri="http://schemas.openxmlformats.org/drawingml/2006/table">
            <a:tbl>
              <a:tblPr/>
              <a:tblGrid>
                <a:gridCol w="733320"/>
                <a:gridCol w="762120"/>
                <a:gridCol w="714240"/>
                <a:gridCol w="3276720"/>
              </a:tblGrid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 K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ŠALJI ABORT (SDL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T STATUSA PREK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T KAN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MOGUĆENJE PREKIDA NA SLIJEDEĆEM Rx ZNA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T Tx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ET POGREŠ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VRATAK IZ PREK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2971800" y="1371600"/>
            <a:ext cx="1523880" cy="685800"/>
            <a:chOff x="2971800" y="1371600"/>
            <a:chExt cx="1523880" cy="685800"/>
          </a:xfrm>
        </p:grpSpPr>
        <p:sp>
          <p:nvSpPr>
            <p:cNvPr id="315" name=""/>
            <p:cNvSpPr/>
            <p:nvPr/>
          </p:nvSpPr>
          <p:spPr>
            <a:xfrm>
              <a:off x="3733920" y="13716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95680" y="13716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71800" y="13716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4648320" y="16765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AZIVAČKI BIT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0" y="20574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SNOVNE INSTRU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23880" y="1371600"/>
            <a:ext cx="761760" cy="1143000"/>
            <a:chOff x="1523880" y="1371600"/>
            <a:chExt cx="761760" cy="1143000"/>
          </a:xfrm>
        </p:grpSpPr>
        <p:sp>
          <p:nvSpPr>
            <p:cNvPr id="321" name=""/>
            <p:cNvSpPr/>
            <p:nvPr/>
          </p:nvSpPr>
          <p:spPr>
            <a:xfrm>
              <a:off x="2285640" y="137160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23880" y="137160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609480" y="25146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ET INSTRU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3346560" y="1371600"/>
            <a:ext cx="5715000" cy="3794040"/>
            <a:chOff x="3346560" y="1371600"/>
            <a:chExt cx="5715000" cy="3794040"/>
          </a:xfrm>
        </p:grpSpPr>
        <p:sp>
          <p:nvSpPr>
            <p:cNvPr id="325" name=""/>
            <p:cNvSpPr/>
            <p:nvPr/>
          </p:nvSpPr>
          <p:spPr>
            <a:xfrm>
              <a:off x="4843440" y="4327200"/>
              <a:ext cx="42181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PREKID NA SVAKI Rx ZNAK (GREŠKA PARITETA NIJE SPECIJALNI UVJET PRIMANJ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43440" y="3489120"/>
              <a:ext cx="421812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PREKID NA SVAKI Rx ZNAK (GREŠKA PARITETA JE SPECIJALNI UVJET PRIMANJ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43440" y="2925360"/>
              <a:ext cx="42181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EKID PRIMANJA SAMO NA PRVI ZN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43440" y="2361960"/>
              <a:ext cx="4218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NEMUGUĆENJE PREKIDA NA PRIM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19840" y="4327200"/>
              <a:ext cx="7236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46560" y="4327200"/>
              <a:ext cx="77328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19840" y="3489120"/>
              <a:ext cx="72360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46560" y="3489120"/>
              <a:ext cx="77328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19840" y="2925360"/>
              <a:ext cx="7236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46560" y="2925360"/>
              <a:ext cx="77328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19840" y="2361960"/>
              <a:ext cx="7236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46560" y="2361960"/>
              <a:ext cx="77328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7200" bIns="72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46560" y="2361960"/>
              <a:ext cx="0" cy="563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061560" y="2361960"/>
              <a:ext cx="0" cy="563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46560" y="2361960"/>
              <a:ext cx="773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6560" y="2925360"/>
              <a:ext cx="0" cy="563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9840" y="2361960"/>
              <a:ext cx="723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43440" y="2361960"/>
              <a:ext cx="4218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61560" y="2925360"/>
              <a:ext cx="0" cy="563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46560" y="3489120"/>
              <a:ext cx="0" cy="837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061560" y="3489120"/>
              <a:ext cx="0" cy="837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46560" y="4327200"/>
              <a:ext cx="0" cy="83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061560" y="4327200"/>
              <a:ext cx="0" cy="83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46560" y="5165640"/>
              <a:ext cx="773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19840" y="5165640"/>
              <a:ext cx="723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43440" y="5165640"/>
              <a:ext cx="4218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27440" y="1371600"/>
              <a:ext cx="0" cy="68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89560" y="1371600"/>
              <a:ext cx="0" cy="68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75160" y="205704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EKIDNI NAČ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09480" y="198108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2=0 koristi se prekidni vektor postavljen u WR2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   D2=1 u prekidnom vektoru se donja 3 bita modificiraju na slj. nač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R1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219320" y="914400"/>
            <a:ext cx="5790240" cy="459720"/>
            <a:chOff x="1219320" y="914400"/>
            <a:chExt cx="5790240" cy="459720"/>
          </a:xfrm>
        </p:grpSpPr>
        <p:grpSp>
          <p:nvGrpSpPr>
            <p:cNvPr id="357" name=""/>
            <p:cNvGrpSpPr/>
            <p:nvPr/>
          </p:nvGrpSpPr>
          <p:grpSpPr>
            <a:xfrm>
              <a:off x="1219320" y="914400"/>
              <a:ext cx="2894760" cy="459720"/>
              <a:chOff x="1219320" y="914400"/>
              <a:chExt cx="2894760" cy="45972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1219320" y="914400"/>
                <a:ext cx="1447200" cy="459720"/>
                <a:chOff x="1219320" y="914400"/>
                <a:chExt cx="1447200" cy="4597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9429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2193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666880" y="914400"/>
                <a:ext cx="1447200" cy="459720"/>
                <a:chOff x="2666880" y="914400"/>
                <a:chExt cx="1447200" cy="459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390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6668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4114800" y="914400"/>
              <a:ext cx="2894760" cy="459720"/>
              <a:chOff x="4114800" y="914400"/>
              <a:chExt cx="2894760" cy="45972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4114800" y="914400"/>
                <a:ext cx="1447200" cy="459720"/>
                <a:chOff x="4114800" y="914400"/>
                <a:chExt cx="1447200" cy="4597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838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1148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5562360" y="914400"/>
                <a:ext cx="1447200" cy="459720"/>
                <a:chOff x="5562360" y="914400"/>
                <a:chExt cx="1447200" cy="4597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2859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5623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" name=""/>
          <p:cNvGrpSpPr/>
          <p:nvPr/>
        </p:nvGrpSpPr>
        <p:grpSpPr>
          <a:xfrm>
            <a:off x="6553080" y="1371600"/>
            <a:ext cx="2743200" cy="1221840"/>
            <a:chOff x="6553080" y="1371600"/>
            <a:chExt cx="2743200" cy="1221840"/>
          </a:xfrm>
        </p:grpSpPr>
        <p:sp>
          <p:nvSpPr>
            <p:cNvPr id="372" name=""/>
            <p:cNvSpPr/>
            <p:nvPr/>
          </p:nvSpPr>
          <p:spPr>
            <a:xfrm>
              <a:off x="670572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3080" y="167652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EXT Int Enable   D0=1 omogućen vanjski prek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943600" y="1371600"/>
            <a:ext cx="3352680" cy="2146320"/>
            <a:chOff x="5943600" y="1371600"/>
            <a:chExt cx="3352680" cy="2146320"/>
          </a:xfrm>
        </p:grpSpPr>
        <p:sp>
          <p:nvSpPr>
            <p:cNvPr id="375" name=""/>
            <p:cNvSpPr/>
            <p:nvPr/>
          </p:nvSpPr>
          <p:spPr>
            <a:xfrm>
              <a:off x="5943600" y="1371600"/>
              <a:ext cx="0" cy="140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3080" y="260100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Tx Int Enable     D1=1 omogućenje prekida na prazan Tx sprem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3600" y="277704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495680" y="1371600"/>
            <a:ext cx="2743200" cy="1800720"/>
            <a:chOff x="4495680" y="1371600"/>
            <a:chExt cx="2743200" cy="1800720"/>
          </a:xfrm>
        </p:grpSpPr>
        <p:sp>
          <p:nvSpPr>
            <p:cNvPr id="379" name=""/>
            <p:cNvSpPr/>
            <p:nvPr/>
          </p:nvSpPr>
          <p:spPr>
            <a:xfrm>
              <a:off x="5181480" y="1371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95680" y="198108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Status Affect Flag D2=1 Omogućenje statusne modifikacije prekidnog vekt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1" name=""/>
          <p:cNvGraphicFramePr/>
          <p:nvPr/>
        </p:nvGraphicFramePr>
        <p:xfrm>
          <a:off x="685800" y="3429000"/>
          <a:ext cx="5181480" cy="260028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4038480"/>
              </a:tblGrid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 B Tx spremnik praz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 B Vanjska/Statusna prom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 B Dostupan Rx z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 B Specijalni uvjet prim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 A Tx spremnik praz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 A Vanjska/Statusna promj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 A Dostupan Rx z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8000" rIns="18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 A Specijalni uvjet prim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"/>
          <p:cNvSpPr/>
          <p:nvPr/>
        </p:nvSpPr>
        <p:spPr>
          <a:xfrm>
            <a:off x="5867280" y="51055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pecijalni uvjet primanja može biti greška pariteta, Rx preljev, greška uokvirenja (framing) te kraj okvi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066680" y="1371600"/>
            <a:ext cx="4800600" cy="2852280"/>
            <a:chOff x="1066680" y="1371600"/>
            <a:chExt cx="4800600" cy="2852280"/>
          </a:xfrm>
        </p:grpSpPr>
        <p:sp>
          <p:nvSpPr>
            <p:cNvPr id="384" name=""/>
            <p:cNvSpPr/>
            <p:nvPr/>
          </p:nvSpPr>
          <p:spPr>
            <a:xfrm>
              <a:off x="1523880" y="13716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66680" y="3581280"/>
              <a:ext cx="480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Wait/Ready Enable                       D7=1 omogućenje Wait/Ready funkci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590920" y="1371600"/>
            <a:ext cx="4495320" cy="1099800"/>
            <a:chOff x="2590920" y="1371600"/>
            <a:chExt cx="4495320" cy="1099800"/>
          </a:xfrm>
        </p:grpSpPr>
        <p:sp>
          <p:nvSpPr>
            <p:cNvPr id="387" name=""/>
            <p:cNvSpPr/>
            <p:nvPr/>
          </p:nvSpPr>
          <p:spPr>
            <a:xfrm>
              <a:off x="305892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90920" y="1828800"/>
              <a:ext cx="449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Wait/Ready on W/T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     D5=1 na primanje; D5=0 na sla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905120" y="1371600"/>
            <a:ext cx="4800600" cy="2128320"/>
            <a:chOff x="1905120" y="1371600"/>
            <a:chExt cx="4800600" cy="2128320"/>
          </a:xfrm>
        </p:grpSpPr>
        <p:sp>
          <p:nvSpPr>
            <p:cNvPr id="390" name=""/>
            <p:cNvSpPr/>
            <p:nvPr/>
          </p:nvSpPr>
          <p:spPr>
            <a:xfrm>
              <a:off x="2286000" y="1371600"/>
              <a:ext cx="0" cy="121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05120" y="2583000"/>
              <a:ext cx="4800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Wait/Ready Function                    D6=0 WAIT FUNKCIJA 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            D6=1 READY FUNKCI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590920" y="4495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Wait/Ready funkcije se mogu koristiti ili kod slanja ili primanja, ali ne istovremeno. Reagiraju na stanja spremnika primanja i slan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R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219320" y="914400"/>
            <a:ext cx="5790240" cy="459720"/>
            <a:chOff x="1219320" y="914400"/>
            <a:chExt cx="5790240" cy="459720"/>
          </a:xfrm>
        </p:grpSpPr>
        <p:grpSp>
          <p:nvGrpSpPr>
            <p:cNvPr id="395" name=""/>
            <p:cNvGrpSpPr/>
            <p:nvPr/>
          </p:nvGrpSpPr>
          <p:grpSpPr>
            <a:xfrm>
              <a:off x="1219320" y="914400"/>
              <a:ext cx="2894760" cy="459720"/>
              <a:chOff x="1219320" y="914400"/>
              <a:chExt cx="2894760" cy="45972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1219320" y="914400"/>
                <a:ext cx="1447200" cy="459720"/>
                <a:chOff x="1219320" y="914400"/>
                <a:chExt cx="1447200" cy="4597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9429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121932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7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2666880" y="914400"/>
                <a:ext cx="1447200" cy="459720"/>
                <a:chOff x="2666880" y="914400"/>
                <a:chExt cx="1447200" cy="4597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3904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6688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2" name=""/>
            <p:cNvGrpSpPr/>
            <p:nvPr/>
          </p:nvGrpSpPr>
          <p:grpSpPr>
            <a:xfrm>
              <a:off x="4114800" y="914400"/>
              <a:ext cx="2894760" cy="459720"/>
              <a:chOff x="4114800" y="914400"/>
              <a:chExt cx="2894760" cy="45972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4114800" y="914400"/>
                <a:ext cx="1447200" cy="459720"/>
                <a:chOff x="4114800" y="914400"/>
                <a:chExt cx="1447200" cy="45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8384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1480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5562360" y="914400"/>
                <a:ext cx="1447200" cy="459720"/>
                <a:chOff x="5562360" y="914400"/>
                <a:chExt cx="1447200" cy="45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2859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562360" y="91440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9" name=""/>
          <p:cNvSpPr/>
          <p:nvPr/>
        </p:nvSpPr>
        <p:spPr>
          <a:xfrm>
            <a:off x="838080" y="48769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kidni vektor koristi se samo za kanal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koliko je u registru WR1 D2=0, V7-V0 vraćaju se kako su i zadani. Ukoliko je u registru WR1 D2=1, V3-V1 modificiraju se kako je objašnjeno pri opisu registra WR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600200" y="1371600"/>
            <a:ext cx="5943600" cy="3035160"/>
            <a:chOff x="1600200" y="1371600"/>
            <a:chExt cx="5943600" cy="3035160"/>
          </a:xfrm>
        </p:grpSpPr>
        <p:sp>
          <p:nvSpPr>
            <p:cNvPr id="411" name=""/>
            <p:cNvSpPr/>
            <p:nvPr/>
          </p:nvSpPr>
          <p:spPr>
            <a:xfrm>
              <a:off x="6705720" y="137160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10280" y="15238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05720" y="17524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943600" y="13716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1480" y="1371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95680" y="137160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1371600"/>
              <a:ext cx="0" cy="1752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48120" y="13716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86000" y="1371600"/>
              <a:ext cx="0" cy="25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1371600"/>
              <a:ext cx="0" cy="289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43600" y="205740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181480" y="23623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95680" y="274320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33920" y="3124080"/>
              <a:ext cx="32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48120" y="3505320"/>
              <a:ext cx="396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6000" y="3886200"/>
              <a:ext cx="4724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00200" y="4267080"/>
              <a:ext cx="5410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10280" y="1828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10280" y="21337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10280" y="2514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10280" y="2895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10280" y="32767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10280" y="36576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10280" y="4038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7467480" y="1600200"/>
            <a:ext cx="381240" cy="2743200"/>
          </a:xfrm>
          <a:custGeom>
            <a:avLst/>
            <a:gdLst>
              <a:gd name="textAreaLeft" fmla="*/ 0 w 381240"/>
              <a:gd name="textAreaRight" fmla="*/ 13752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805880" y="2639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KIDNI VE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ksi</cp:lastModifiedBy>
  <dcterms:modified xsi:type="dcterms:W3CDTF">2007-04-11T11:41:01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